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251D-9904-4ECC-AD7F-1A0F6B49D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FC3C-D201-4F83-B366-5BA52829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089A-8878-4C85-8E63-E573630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A97F-C5E8-48ED-836B-84BA253571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6A770-FDEB-4DC8-B7E5-57F88550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AF4F-998E-4DEF-90E1-E156188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21E78-521D-4E80-9051-121F299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395BC-0005-477B-B4C3-15795E54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F6FF-4BC4-4795-A4D8-B32A607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78975-AA11-47CE-9B1A-9B1E98A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62FEE-69AD-477A-912C-EB53881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1A54-2A35-4541-A370-7DFAFDA1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E2C7D-8768-4DA3-80E7-281E2D6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70587-3AD4-4C9B-91EE-6236E439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BBE6B-C263-4E4E-8620-EB091F3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2779F-959F-4D96-9472-D424C979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6CC24-9863-478B-8B1C-D267BE8D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4B72-878F-480D-B40F-704B647B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D251-510A-4E55-B354-731432C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126B-14D4-4F7B-ACDF-1187D7C8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AC80-639F-48C7-819A-19281B2E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CE94-A99F-405E-B727-05B6194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9949-F00D-4098-BF55-26F90F9B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9E87-8764-4F92-A9D2-3830904D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82E1-54A4-4FC2-A5F7-F9EFB6CD563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6A2-8D8B-4109-B85D-DFFDA1CBCBF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2260080" y="2743920"/>
            <a:ext cx="463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属资源的利用和保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时  铁的冶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八单元  金属和金属材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113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117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o还原氧化铁"/>
          <p:cNvPicPr/>
          <p:nvPr/>
        </p:nvPicPr>
        <p:blipFill>
          <a:blip r:embed="rId1"/>
          <a:srcRect l="0" t="0" r="0" b="1535"/>
          <a:stretch/>
        </p:blipFill>
        <p:spPr>
          <a:xfrm>
            <a:off x="844560" y="2556000"/>
            <a:ext cx="734544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09600" y="140796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冶铁的目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689200" y="1246320"/>
            <a:ext cx="244800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铁的化合物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965840" y="1581120"/>
            <a:ext cx="1006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962680" y="1238400"/>
            <a:ext cx="140508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铁单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17520" y="2171880"/>
            <a:ext cx="4782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2.</a:t>
            </a: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冶铁的化学原理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9"/>
          <p:cNvGrpSpPr/>
          <p:nvPr/>
        </p:nvGrpSpPr>
        <p:grpSpPr>
          <a:xfrm>
            <a:off x="2994120" y="1800360"/>
            <a:ext cx="5510160" cy="852480"/>
            <a:chOff x="2994120" y="1800360"/>
            <a:chExt cx="5510160" cy="852480"/>
          </a:xfrm>
        </p:grpSpPr>
        <p:sp>
          <p:nvSpPr>
            <p:cNvPr id="189" name="Text Box 16"/>
            <p:cNvSpPr/>
            <p:nvPr/>
          </p:nvSpPr>
          <p:spPr>
            <a:xfrm>
              <a:off x="2994120" y="2108160"/>
              <a:ext cx="5510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3CO               2Fe+3CO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5243400" y="2382840"/>
              <a:ext cx="101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5253120" y="2271960"/>
              <a:ext cx="101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5262480" y="1800360"/>
              <a:ext cx="1240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温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44057"/>
          <p:cNvSpPr/>
          <p:nvPr/>
        </p:nvSpPr>
        <p:spPr>
          <a:xfrm>
            <a:off x="2600280" y="603360"/>
            <a:ext cx="4363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铁的冶炼（实验室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084720" y="1930320"/>
            <a:ext cx="120816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石灰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1960" y="403200"/>
            <a:ext cx="8622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4243320" y="569880"/>
            <a:ext cx="1158840" cy="2496960"/>
            <a:chOff x="4243320" y="569880"/>
            <a:chExt cx="1158840" cy="2496960"/>
          </a:xfrm>
        </p:grpSpPr>
        <p:grpSp>
          <p:nvGrpSpPr>
            <p:cNvPr id="198" name="Group 5"/>
            <p:cNvGrpSpPr/>
            <p:nvPr/>
          </p:nvGrpSpPr>
          <p:grpSpPr>
            <a:xfrm>
              <a:off x="4744080" y="569880"/>
              <a:ext cx="162720" cy="2289960"/>
              <a:chOff x="4744080" y="569880"/>
              <a:chExt cx="162720" cy="2289960"/>
            </a:xfrm>
          </p:grpSpPr>
          <p:sp>
            <p:nvSpPr>
              <p:cNvPr id="199" name="Rectangle 6"/>
              <p:cNvSpPr/>
              <p:nvPr/>
            </p:nvSpPr>
            <p:spPr>
              <a:xfrm>
                <a:off x="4781160" y="569880"/>
                <a:ext cx="78840" cy="22438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7"/>
              <p:cNvSpPr/>
              <p:nvPr/>
            </p:nvSpPr>
            <p:spPr>
              <a:xfrm>
                <a:off x="4744080" y="2729520"/>
                <a:ext cx="162720" cy="1303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8"/>
            <p:cNvGrpSpPr/>
            <p:nvPr/>
          </p:nvGrpSpPr>
          <p:grpSpPr>
            <a:xfrm>
              <a:off x="4243320" y="2835360"/>
              <a:ext cx="1158840" cy="231480"/>
              <a:chOff x="4243320" y="2835360"/>
              <a:chExt cx="1158840" cy="231480"/>
            </a:xfrm>
          </p:grpSpPr>
          <p:sp>
            <p:nvSpPr>
              <p:cNvPr id="202" name="Rectangle 9"/>
              <p:cNvSpPr/>
              <p:nvPr/>
            </p:nvSpPr>
            <p:spPr>
              <a:xfrm>
                <a:off x="4243320" y="2835360"/>
                <a:ext cx="1158840" cy="1454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0"/>
              <p:cNvSpPr/>
              <p:nvPr/>
            </p:nvSpPr>
            <p:spPr>
              <a:xfrm>
                <a:off x="4243320" y="2980800"/>
                <a:ext cx="109440" cy="860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1"/>
              <p:cNvSpPr/>
              <p:nvPr/>
            </p:nvSpPr>
            <p:spPr>
              <a:xfrm>
                <a:off x="5302080" y="2980800"/>
                <a:ext cx="99000" cy="7776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12"/>
          <p:cNvGrpSpPr/>
          <p:nvPr/>
        </p:nvGrpSpPr>
        <p:grpSpPr>
          <a:xfrm>
            <a:off x="2173320" y="569880"/>
            <a:ext cx="1158840" cy="2496960"/>
            <a:chOff x="2173320" y="569880"/>
            <a:chExt cx="1158840" cy="2496960"/>
          </a:xfrm>
        </p:grpSpPr>
        <p:grpSp>
          <p:nvGrpSpPr>
            <p:cNvPr id="206" name="Group 13"/>
            <p:cNvGrpSpPr/>
            <p:nvPr/>
          </p:nvGrpSpPr>
          <p:grpSpPr>
            <a:xfrm>
              <a:off x="2674080" y="569880"/>
              <a:ext cx="162720" cy="2289960"/>
              <a:chOff x="2674080" y="569880"/>
              <a:chExt cx="162720" cy="2289960"/>
            </a:xfrm>
          </p:grpSpPr>
          <p:sp>
            <p:nvSpPr>
              <p:cNvPr id="207" name="Rectangle 14"/>
              <p:cNvSpPr/>
              <p:nvPr/>
            </p:nvSpPr>
            <p:spPr>
              <a:xfrm>
                <a:off x="2711160" y="569880"/>
                <a:ext cx="78840" cy="22438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5"/>
              <p:cNvSpPr/>
              <p:nvPr/>
            </p:nvSpPr>
            <p:spPr>
              <a:xfrm>
                <a:off x="2674080" y="2729520"/>
                <a:ext cx="162720" cy="1303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6"/>
            <p:cNvGrpSpPr/>
            <p:nvPr/>
          </p:nvGrpSpPr>
          <p:grpSpPr>
            <a:xfrm>
              <a:off x="2173320" y="2835360"/>
              <a:ext cx="1158840" cy="231480"/>
              <a:chOff x="2173320" y="2835360"/>
              <a:chExt cx="1158840" cy="231480"/>
            </a:xfrm>
          </p:grpSpPr>
          <p:sp>
            <p:nvSpPr>
              <p:cNvPr id="210" name="Rectangle 17"/>
              <p:cNvSpPr/>
              <p:nvPr/>
            </p:nvSpPr>
            <p:spPr>
              <a:xfrm>
                <a:off x="2173320" y="2835360"/>
                <a:ext cx="1158840" cy="1454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8"/>
              <p:cNvSpPr/>
              <p:nvPr/>
            </p:nvSpPr>
            <p:spPr>
              <a:xfrm>
                <a:off x="2173320" y="2980800"/>
                <a:ext cx="109440" cy="860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9"/>
              <p:cNvSpPr/>
              <p:nvPr/>
            </p:nvSpPr>
            <p:spPr>
              <a:xfrm>
                <a:off x="3232080" y="2980800"/>
                <a:ext cx="99000" cy="7776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Group 20"/>
          <p:cNvGrpSpPr/>
          <p:nvPr/>
        </p:nvGrpSpPr>
        <p:grpSpPr>
          <a:xfrm>
            <a:off x="2254320" y="1162080"/>
            <a:ext cx="3109320" cy="272520"/>
            <a:chOff x="2254320" y="1162080"/>
            <a:chExt cx="3109320" cy="272520"/>
          </a:xfrm>
        </p:grpSpPr>
        <p:sp>
          <p:nvSpPr>
            <p:cNvPr id="214" name="Rectangle 21"/>
            <p:cNvSpPr/>
            <p:nvPr/>
          </p:nvSpPr>
          <p:spPr>
            <a:xfrm>
              <a:off x="4578120" y="1273680"/>
              <a:ext cx="78552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2"/>
            <p:cNvSpPr/>
            <p:nvPr/>
          </p:nvSpPr>
          <p:spPr>
            <a:xfrm>
              <a:off x="2254320" y="1273680"/>
              <a:ext cx="78552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23"/>
            <p:cNvGrpSpPr/>
            <p:nvPr/>
          </p:nvGrpSpPr>
          <p:grpSpPr>
            <a:xfrm>
              <a:off x="4661640" y="1162080"/>
              <a:ext cx="217080" cy="258840"/>
              <a:chOff x="4661640" y="1162080"/>
              <a:chExt cx="217080" cy="258840"/>
            </a:xfrm>
          </p:grpSpPr>
          <p:sp>
            <p:nvSpPr>
              <p:cNvPr id="217" name="Rectangle 24"/>
              <p:cNvSpPr/>
              <p:nvPr/>
            </p:nvSpPr>
            <p:spPr>
              <a:xfrm>
                <a:off x="4661640" y="1176480"/>
                <a:ext cx="108360" cy="229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25"/>
              <p:cNvSpPr/>
              <p:nvPr/>
            </p:nvSpPr>
            <p:spPr>
              <a:xfrm>
                <a:off x="4770000" y="1162080"/>
                <a:ext cx="108720" cy="258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6"/>
            <p:cNvGrpSpPr/>
            <p:nvPr/>
          </p:nvGrpSpPr>
          <p:grpSpPr>
            <a:xfrm>
              <a:off x="2755440" y="1175760"/>
              <a:ext cx="217080" cy="258840"/>
              <a:chOff x="2755440" y="1175760"/>
              <a:chExt cx="217080" cy="258840"/>
            </a:xfrm>
          </p:grpSpPr>
          <p:sp>
            <p:nvSpPr>
              <p:cNvPr id="220" name="Rectangle 27"/>
              <p:cNvSpPr/>
              <p:nvPr/>
            </p:nvSpPr>
            <p:spPr>
              <a:xfrm flipH="1">
                <a:off x="2863800" y="1190160"/>
                <a:ext cx="108360" cy="229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 flipH="1">
                <a:off x="2755440" y="1175760"/>
                <a:ext cx="108720" cy="258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29"/>
            <p:cNvSpPr/>
            <p:nvPr/>
          </p:nvSpPr>
          <p:spPr>
            <a:xfrm>
              <a:off x="2855880" y="1189800"/>
              <a:ext cx="1956240" cy="21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0"/>
          <p:cNvGrpSpPr/>
          <p:nvPr/>
        </p:nvGrpSpPr>
        <p:grpSpPr>
          <a:xfrm>
            <a:off x="4724280" y="1155600"/>
            <a:ext cx="185760" cy="261720"/>
            <a:chOff x="4724280" y="1155600"/>
            <a:chExt cx="185760" cy="261720"/>
          </a:xfrm>
        </p:grpSpPr>
        <p:sp>
          <p:nvSpPr>
            <p:cNvPr id="224" name="Rectangle 31"/>
            <p:cNvSpPr/>
            <p:nvPr/>
          </p:nvSpPr>
          <p:spPr>
            <a:xfrm>
              <a:off x="4724280" y="1155600"/>
              <a:ext cx="1857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2"/>
            <p:cNvSpPr/>
            <p:nvPr/>
          </p:nvSpPr>
          <p:spPr>
            <a:xfrm>
              <a:off x="4724280" y="1339560"/>
              <a:ext cx="1857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3"/>
          <p:cNvGrpSpPr/>
          <p:nvPr/>
        </p:nvGrpSpPr>
        <p:grpSpPr>
          <a:xfrm>
            <a:off x="2655720" y="1155600"/>
            <a:ext cx="184320" cy="261720"/>
            <a:chOff x="2655720" y="1155600"/>
            <a:chExt cx="184320" cy="261720"/>
          </a:xfrm>
        </p:grpSpPr>
        <p:sp>
          <p:nvSpPr>
            <p:cNvPr id="227" name="Rectangle 34"/>
            <p:cNvSpPr/>
            <p:nvPr/>
          </p:nvSpPr>
          <p:spPr>
            <a:xfrm>
              <a:off x="2655720" y="1155600"/>
              <a:ext cx="18432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5"/>
            <p:cNvSpPr/>
            <p:nvPr/>
          </p:nvSpPr>
          <p:spPr>
            <a:xfrm>
              <a:off x="2655720" y="1339560"/>
              <a:ext cx="18432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6"/>
          <p:cNvGrpSpPr/>
          <p:nvPr/>
        </p:nvGrpSpPr>
        <p:grpSpPr>
          <a:xfrm>
            <a:off x="5934240" y="2766960"/>
            <a:ext cx="99360" cy="185400"/>
            <a:chOff x="5934240" y="2766960"/>
            <a:chExt cx="99360" cy="185400"/>
          </a:xfrm>
        </p:grpSpPr>
        <p:sp>
          <p:nvSpPr>
            <p:cNvPr id="230" name="Oval 37"/>
            <p:cNvSpPr/>
            <p:nvPr/>
          </p:nvSpPr>
          <p:spPr>
            <a:xfrm>
              <a:off x="5934240" y="2926440"/>
              <a:ext cx="26280" cy="2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8"/>
            <p:cNvSpPr/>
            <p:nvPr/>
          </p:nvSpPr>
          <p:spPr>
            <a:xfrm>
              <a:off x="5971320" y="2870280"/>
              <a:ext cx="4248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9"/>
            <p:cNvSpPr/>
            <p:nvPr/>
          </p:nvSpPr>
          <p:spPr>
            <a:xfrm>
              <a:off x="5991120" y="2766960"/>
              <a:ext cx="42480" cy="4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0"/>
          <p:cNvGrpSpPr/>
          <p:nvPr/>
        </p:nvGrpSpPr>
        <p:grpSpPr>
          <a:xfrm>
            <a:off x="5969160" y="1268280"/>
            <a:ext cx="1368000" cy="431280"/>
            <a:chOff x="5969160" y="1268280"/>
            <a:chExt cx="1368000" cy="431280"/>
          </a:xfrm>
        </p:grpSpPr>
        <p:sp>
          <p:nvSpPr>
            <p:cNvPr id="234" name="未知"/>
            <p:cNvSpPr/>
            <p:nvPr/>
          </p:nvSpPr>
          <p:spPr>
            <a:xfrm>
              <a:off x="6026760" y="1335960"/>
              <a:ext cx="558360" cy="363600"/>
            </a:xfrm>
            <a:custGeom>
              <a:avLst/>
              <a:gdLst/>
              <a:ahLst/>
              <a:rect l="l" t="t" r="r" b="b"/>
              <a:pathLst>
                <a:path w="349" h="193">
                  <a:moveTo>
                    <a:pt x="349" y="1"/>
                  </a:moveTo>
                  <a:lnTo>
                    <a:pt x="59" y="0"/>
                  </a:lnTo>
                  <a:lnTo>
                    <a:pt x="29" y="8"/>
                  </a:lnTo>
                  <a:lnTo>
                    <a:pt x="8" y="29"/>
                  </a:lnTo>
                  <a:lnTo>
                    <a:pt x="0" y="59"/>
                  </a:lnTo>
                  <a:lnTo>
                    <a:pt x="1" y="1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969160" y="1268280"/>
              <a:ext cx="621000" cy="408960"/>
            </a:xfrm>
            <a:custGeom>
              <a:avLst/>
              <a:gdLst/>
              <a:ahLst/>
              <a:rect l="l" t="t" r="r" b="b"/>
              <a:pathLst>
                <a:path w="388" h="217">
                  <a:moveTo>
                    <a:pt x="388" y="0"/>
                  </a:moveTo>
                  <a:lnTo>
                    <a:pt x="94" y="0"/>
                  </a:lnTo>
                  <a:lnTo>
                    <a:pt x="70" y="3"/>
                  </a:lnTo>
                  <a:lnTo>
                    <a:pt x="47" y="13"/>
                  </a:lnTo>
                  <a:lnTo>
                    <a:pt x="27" y="27"/>
                  </a:lnTo>
                  <a:lnTo>
                    <a:pt x="13" y="47"/>
                  </a:lnTo>
                  <a:lnTo>
                    <a:pt x="3" y="70"/>
                  </a:lnTo>
                  <a:lnTo>
                    <a:pt x="0" y="94"/>
                  </a:lnTo>
                  <a:lnTo>
                    <a:pt x="1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>
              <a:off x="6359400" y="1335960"/>
              <a:ext cx="9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4"/>
            <p:cNvSpPr/>
            <p:nvPr/>
          </p:nvSpPr>
          <p:spPr>
            <a:xfrm flipH="1">
              <a:off x="6350040" y="1271880"/>
              <a:ext cx="9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45"/>
          <p:cNvSpPr/>
          <p:nvPr/>
        </p:nvSpPr>
        <p:spPr>
          <a:xfrm flipV="1" rot="5400000">
            <a:off x="5510160" y="2524680"/>
            <a:ext cx="887400" cy="19836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5842080" y="1693800"/>
            <a:ext cx="201600" cy="633600"/>
          </a:xfrm>
          <a:custGeom>
            <a:avLst/>
            <a:gdLst/>
            <a:ahLst/>
            <a:rect l="l" t="t" r="r" b="b"/>
            <a:pathLst>
              <a:path w="210" h="675">
                <a:moveTo>
                  <a:pt x="1" y="675"/>
                </a:moveTo>
                <a:lnTo>
                  <a:pt x="1" y="74"/>
                </a:lnTo>
                <a:lnTo>
                  <a:pt x="0" y="0"/>
                </a:lnTo>
                <a:lnTo>
                  <a:pt x="210" y="8"/>
                </a:lnTo>
                <a:lnTo>
                  <a:pt x="207" y="84"/>
                </a:lnTo>
                <a:lnTo>
                  <a:pt x="207" y="675"/>
                </a:lnTo>
                <a:lnTo>
                  <a:pt x="1" y="6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7"/>
          <p:cNvSpPr/>
          <p:nvPr/>
        </p:nvSpPr>
        <p:spPr>
          <a:xfrm>
            <a:off x="5821200" y="1646280"/>
            <a:ext cx="228600" cy="11124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50000">
                <a:srgbClr val="ffffff"/>
              </a:gs>
              <a:gs pos="100000">
                <a:srgbClr val="59595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8"/>
          <p:cNvSpPr/>
          <p:nvPr/>
        </p:nvSpPr>
        <p:spPr>
          <a:xfrm>
            <a:off x="5846760" y="1763640"/>
            <a:ext cx="182520" cy="82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54545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9"/>
          <p:cNvGrpSpPr/>
          <p:nvPr/>
        </p:nvGrpSpPr>
        <p:grpSpPr>
          <a:xfrm>
            <a:off x="5904000" y="1837800"/>
            <a:ext cx="31680" cy="1063800"/>
            <a:chOff x="5904000" y="1837800"/>
            <a:chExt cx="31680" cy="1063800"/>
          </a:xfrm>
        </p:grpSpPr>
        <p:sp>
          <p:nvSpPr>
            <p:cNvPr id="243" name="Line 50"/>
            <p:cNvSpPr/>
            <p:nvPr/>
          </p:nvSpPr>
          <p:spPr>
            <a:xfrm flipV="1">
              <a:off x="5904000" y="183780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1"/>
            <p:cNvSpPr/>
            <p:nvPr/>
          </p:nvSpPr>
          <p:spPr>
            <a:xfrm flipV="1">
              <a:off x="5935680" y="1837800"/>
              <a:ext cx="0" cy="10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52"/>
          <p:cNvGrpSpPr/>
          <p:nvPr/>
        </p:nvGrpSpPr>
        <p:grpSpPr>
          <a:xfrm>
            <a:off x="5978520" y="1847880"/>
            <a:ext cx="28440" cy="133200"/>
            <a:chOff x="5978520" y="1847880"/>
            <a:chExt cx="28440" cy="133200"/>
          </a:xfrm>
        </p:grpSpPr>
        <p:sp>
          <p:nvSpPr>
            <p:cNvPr id="246" name="Line 53"/>
            <p:cNvSpPr/>
            <p:nvPr/>
          </p:nvSpPr>
          <p:spPr>
            <a:xfrm flipV="1">
              <a:off x="5978520" y="184788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4"/>
            <p:cNvSpPr/>
            <p:nvPr/>
          </p:nvSpPr>
          <p:spPr>
            <a:xfrm flipV="1">
              <a:off x="6006960" y="184788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55"/>
          <p:cNvSpPr/>
          <p:nvPr/>
        </p:nvSpPr>
        <p:spPr>
          <a:xfrm>
            <a:off x="1655640" y="3203640"/>
            <a:ext cx="61563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5310720" y="1268280"/>
            <a:ext cx="599400" cy="367920"/>
            <a:chOff x="5310720" y="1268280"/>
            <a:chExt cx="599400" cy="367920"/>
          </a:xfrm>
        </p:grpSpPr>
        <p:sp>
          <p:nvSpPr>
            <p:cNvPr id="250" name="未知"/>
            <p:cNvSpPr/>
            <p:nvPr/>
          </p:nvSpPr>
          <p:spPr>
            <a:xfrm flipH="1">
              <a:off x="5640120" y="1326240"/>
              <a:ext cx="244800" cy="309960"/>
            </a:xfrm>
            <a:custGeom>
              <a:avLst/>
              <a:gdLst/>
              <a:ahLst/>
              <a:rect l="l" t="t" r="r" b="b"/>
              <a:pathLst>
                <a:path w="349" h="193">
                  <a:moveTo>
                    <a:pt x="349" y="1"/>
                  </a:moveTo>
                  <a:lnTo>
                    <a:pt x="59" y="0"/>
                  </a:lnTo>
                  <a:lnTo>
                    <a:pt x="29" y="8"/>
                  </a:lnTo>
                  <a:lnTo>
                    <a:pt x="8" y="29"/>
                  </a:lnTo>
                  <a:lnTo>
                    <a:pt x="0" y="59"/>
                  </a:lnTo>
                  <a:lnTo>
                    <a:pt x="1" y="1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 flipH="1">
              <a:off x="5637960" y="1268280"/>
              <a:ext cx="272160" cy="348840"/>
            </a:xfrm>
            <a:custGeom>
              <a:avLst/>
              <a:gdLst/>
              <a:ahLst/>
              <a:rect l="l" t="t" r="r" b="b"/>
              <a:pathLst>
                <a:path w="388" h="217">
                  <a:moveTo>
                    <a:pt x="388" y="0"/>
                  </a:moveTo>
                  <a:lnTo>
                    <a:pt x="94" y="0"/>
                  </a:lnTo>
                  <a:lnTo>
                    <a:pt x="70" y="3"/>
                  </a:lnTo>
                  <a:lnTo>
                    <a:pt x="47" y="13"/>
                  </a:lnTo>
                  <a:lnTo>
                    <a:pt x="27" y="27"/>
                  </a:lnTo>
                  <a:lnTo>
                    <a:pt x="13" y="47"/>
                  </a:lnTo>
                  <a:lnTo>
                    <a:pt x="3" y="70"/>
                  </a:lnTo>
                  <a:lnTo>
                    <a:pt x="0" y="94"/>
                  </a:lnTo>
                  <a:lnTo>
                    <a:pt x="1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5310720" y="132624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>
              <a:off x="5314680" y="127152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未知"/>
          <p:cNvSpPr/>
          <p:nvPr/>
        </p:nvSpPr>
        <p:spPr>
          <a:xfrm>
            <a:off x="7236000" y="1123920"/>
            <a:ext cx="804600" cy="268200"/>
          </a:xfrm>
          <a:custGeom>
            <a:avLst/>
            <a:gdLst/>
            <a:ahLst/>
            <a:rect l="l" t="t" r="r" b="b"/>
            <a:pathLst>
              <a:path w="840" h="436">
                <a:moveTo>
                  <a:pt x="85" y="285"/>
                </a:moveTo>
                <a:cubicBezTo>
                  <a:pt x="90" y="240"/>
                  <a:pt x="93" y="195"/>
                  <a:pt x="100" y="150"/>
                </a:cubicBezTo>
                <a:cubicBezTo>
                  <a:pt x="103" y="134"/>
                  <a:pt x="104" y="116"/>
                  <a:pt x="115" y="105"/>
                </a:cubicBezTo>
                <a:cubicBezTo>
                  <a:pt x="126" y="94"/>
                  <a:pt x="146" y="97"/>
                  <a:pt x="160" y="90"/>
                </a:cubicBezTo>
                <a:cubicBezTo>
                  <a:pt x="303" y="19"/>
                  <a:pt x="63" y="107"/>
                  <a:pt x="295" y="30"/>
                </a:cubicBezTo>
                <a:cubicBezTo>
                  <a:pt x="310" y="25"/>
                  <a:pt x="325" y="20"/>
                  <a:pt x="340" y="15"/>
                </a:cubicBezTo>
                <a:cubicBezTo>
                  <a:pt x="355" y="10"/>
                  <a:pt x="385" y="0"/>
                  <a:pt x="385" y="0"/>
                </a:cubicBezTo>
                <a:cubicBezTo>
                  <a:pt x="494" y="18"/>
                  <a:pt x="515" y="27"/>
                  <a:pt x="610" y="90"/>
                </a:cubicBezTo>
                <a:cubicBezTo>
                  <a:pt x="639" y="109"/>
                  <a:pt x="751" y="119"/>
                  <a:pt x="760" y="120"/>
                </a:cubicBezTo>
                <a:cubicBezTo>
                  <a:pt x="830" y="143"/>
                  <a:pt x="840" y="130"/>
                  <a:pt x="790" y="255"/>
                </a:cubicBezTo>
                <a:cubicBezTo>
                  <a:pt x="783" y="272"/>
                  <a:pt x="761" y="277"/>
                  <a:pt x="745" y="285"/>
                </a:cubicBezTo>
                <a:cubicBezTo>
                  <a:pt x="699" y="308"/>
                  <a:pt x="643" y="314"/>
                  <a:pt x="595" y="330"/>
                </a:cubicBezTo>
                <a:cubicBezTo>
                  <a:pt x="567" y="358"/>
                  <a:pt x="543" y="388"/>
                  <a:pt x="505" y="405"/>
                </a:cubicBezTo>
                <a:cubicBezTo>
                  <a:pt x="476" y="418"/>
                  <a:pt x="415" y="435"/>
                  <a:pt x="415" y="435"/>
                </a:cubicBezTo>
                <a:cubicBezTo>
                  <a:pt x="340" y="430"/>
                  <a:pt x="263" y="436"/>
                  <a:pt x="190" y="420"/>
                </a:cubicBezTo>
                <a:cubicBezTo>
                  <a:pt x="115" y="403"/>
                  <a:pt x="166" y="366"/>
                  <a:pt x="130" y="330"/>
                </a:cubicBezTo>
                <a:cubicBezTo>
                  <a:pt x="119" y="319"/>
                  <a:pt x="100" y="320"/>
                  <a:pt x="85" y="315"/>
                </a:cubicBezTo>
                <a:cubicBezTo>
                  <a:pt x="70" y="300"/>
                  <a:pt x="61" y="270"/>
                  <a:pt x="40" y="270"/>
                </a:cubicBezTo>
                <a:cubicBezTo>
                  <a:pt x="0" y="270"/>
                  <a:pt x="40" y="360"/>
                  <a:pt x="40" y="360"/>
                </a:cubicBezTo>
                <a:cubicBezTo>
                  <a:pt x="50" y="331"/>
                  <a:pt x="79" y="266"/>
                  <a:pt x="40" y="240"/>
                </a:cubicBezTo>
                <a:cubicBezTo>
                  <a:pt x="25" y="230"/>
                  <a:pt x="20" y="270"/>
                  <a:pt x="10" y="285"/>
                </a:cubicBezTo>
                <a:cubicBezTo>
                  <a:pt x="15" y="300"/>
                  <a:pt x="9" y="330"/>
                  <a:pt x="25" y="330"/>
                </a:cubicBezTo>
                <a:cubicBezTo>
                  <a:pt x="43" y="330"/>
                  <a:pt x="40" y="275"/>
                  <a:pt x="55" y="285"/>
                </a:cubicBezTo>
                <a:cubicBezTo>
                  <a:pt x="139" y="341"/>
                  <a:pt x="37" y="405"/>
                  <a:pt x="55" y="315"/>
                </a:cubicBezTo>
                <a:cubicBezTo>
                  <a:pt x="58" y="301"/>
                  <a:pt x="75" y="295"/>
                  <a:pt x="85" y="285"/>
                </a:cubicBez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2"/>
          <p:cNvSpPr/>
          <p:nvPr/>
        </p:nvSpPr>
        <p:spPr>
          <a:xfrm>
            <a:off x="5929200" y="2914560"/>
            <a:ext cx="42840" cy="4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3"/>
          <p:cNvSpPr/>
          <p:nvPr/>
        </p:nvSpPr>
        <p:spPr>
          <a:xfrm>
            <a:off x="5970600" y="2563920"/>
            <a:ext cx="42840" cy="4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4"/>
          <p:cNvSpPr/>
          <p:nvPr/>
        </p:nvSpPr>
        <p:spPr>
          <a:xfrm>
            <a:off x="5942160" y="2789280"/>
            <a:ext cx="44280" cy="4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3417840" y="1271520"/>
            <a:ext cx="747720" cy="131760"/>
          </a:xfrm>
          <a:custGeom>
            <a:avLst/>
            <a:gdLst/>
            <a:ahLst/>
            <a:rect l="l" t="t" r="r" b="b"/>
            <a:pathLst>
              <a:path w="780" h="140">
                <a:moveTo>
                  <a:pt x="0" y="134"/>
                </a:moveTo>
                <a:cubicBezTo>
                  <a:pt x="6" y="101"/>
                  <a:pt x="28" y="54"/>
                  <a:pt x="57" y="35"/>
                </a:cubicBezTo>
                <a:cubicBezTo>
                  <a:pt x="74" y="10"/>
                  <a:pt x="90" y="8"/>
                  <a:pt x="120" y="2"/>
                </a:cubicBezTo>
                <a:cubicBezTo>
                  <a:pt x="144" y="3"/>
                  <a:pt x="168" y="1"/>
                  <a:pt x="192" y="5"/>
                </a:cubicBezTo>
                <a:cubicBezTo>
                  <a:pt x="196" y="6"/>
                  <a:pt x="195" y="12"/>
                  <a:pt x="198" y="14"/>
                </a:cubicBezTo>
                <a:cubicBezTo>
                  <a:pt x="206" y="21"/>
                  <a:pt x="225" y="32"/>
                  <a:pt x="225" y="32"/>
                </a:cubicBezTo>
                <a:cubicBezTo>
                  <a:pt x="292" y="28"/>
                  <a:pt x="287" y="20"/>
                  <a:pt x="342" y="2"/>
                </a:cubicBezTo>
                <a:cubicBezTo>
                  <a:pt x="422" y="4"/>
                  <a:pt x="481" y="17"/>
                  <a:pt x="558" y="20"/>
                </a:cubicBezTo>
                <a:cubicBezTo>
                  <a:pt x="610" y="41"/>
                  <a:pt x="676" y="0"/>
                  <a:pt x="714" y="47"/>
                </a:cubicBezTo>
                <a:cubicBezTo>
                  <a:pt x="717" y="60"/>
                  <a:pt x="715" y="74"/>
                  <a:pt x="720" y="86"/>
                </a:cubicBezTo>
                <a:cubicBezTo>
                  <a:pt x="721" y="88"/>
                  <a:pt x="768" y="108"/>
                  <a:pt x="774" y="110"/>
                </a:cubicBezTo>
                <a:cubicBezTo>
                  <a:pt x="780" y="128"/>
                  <a:pt x="769" y="129"/>
                  <a:pt x="753" y="134"/>
                </a:cubicBezTo>
                <a:cubicBezTo>
                  <a:pt x="747" y="136"/>
                  <a:pt x="735" y="140"/>
                  <a:pt x="735" y="140"/>
                </a:cubicBezTo>
                <a:cubicBezTo>
                  <a:pt x="682" y="138"/>
                  <a:pt x="650" y="136"/>
                  <a:pt x="603" y="131"/>
                </a:cubicBezTo>
                <a:cubicBezTo>
                  <a:pt x="574" y="117"/>
                  <a:pt x="541" y="127"/>
                  <a:pt x="510" y="131"/>
                </a:cubicBezTo>
                <a:cubicBezTo>
                  <a:pt x="394" y="122"/>
                  <a:pt x="281" y="124"/>
                  <a:pt x="165" y="134"/>
                </a:cubicBezTo>
                <a:cubicBezTo>
                  <a:pt x="113" y="125"/>
                  <a:pt x="52" y="132"/>
                  <a:pt x="0" y="134"/>
                </a:cubicBezTo>
                <a:close/>
              </a:path>
            </a:pathLst>
          </a:custGeom>
          <a:solidFill>
            <a:srgbClr val="cc3300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6"/>
          <p:cNvSpPr/>
          <p:nvPr/>
        </p:nvSpPr>
        <p:spPr>
          <a:xfrm flipV="1">
            <a:off x="3629160" y="715680"/>
            <a:ext cx="34596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7"/>
          <p:cNvSpPr/>
          <p:nvPr/>
        </p:nvSpPr>
        <p:spPr>
          <a:xfrm>
            <a:off x="1549440" y="900000"/>
            <a:ext cx="8618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8"/>
          <p:cNvSpPr/>
          <p:nvPr/>
        </p:nvSpPr>
        <p:spPr>
          <a:xfrm>
            <a:off x="1547640" y="129708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9"/>
          <p:cNvSpPr/>
          <p:nvPr/>
        </p:nvSpPr>
        <p:spPr>
          <a:xfrm flipV="1">
            <a:off x="6045120" y="2180880"/>
            <a:ext cx="32724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70"/>
          <p:cNvGrpSpPr/>
          <p:nvPr/>
        </p:nvGrpSpPr>
        <p:grpSpPr>
          <a:xfrm>
            <a:off x="3294000" y="1382040"/>
            <a:ext cx="1009800" cy="2278800"/>
            <a:chOff x="3294000" y="1382040"/>
            <a:chExt cx="1009800" cy="2278800"/>
          </a:xfrm>
        </p:grpSpPr>
        <p:grpSp>
          <p:nvGrpSpPr>
            <p:cNvPr id="264" name="Group 71"/>
            <p:cNvGrpSpPr/>
            <p:nvPr/>
          </p:nvGrpSpPr>
          <p:grpSpPr>
            <a:xfrm>
              <a:off x="3294000" y="1382040"/>
              <a:ext cx="1009800" cy="1678680"/>
              <a:chOff x="3294000" y="1382040"/>
              <a:chExt cx="1009800" cy="1678680"/>
            </a:xfrm>
          </p:grpSpPr>
          <p:sp>
            <p:nvSpPr>
              <p:cNvPr id="265" name="xjhhxtx20"/>
              <p:cNvSpPr/>
              <p:nvPr/>
            </p:nvSpPr>
            <p:spPr>
              <a:xfrm>
                <a:off x="3409920" y="2656080"/>
                <a:ext cx="754200" cy="404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294000" y="1382040"/>
                <a:ext cx="1009800" cy="1252800"/>
                <a:chOff x="3294000" y="1382040"/>
                <a:chExt cx="1009800" cy="1252800"/>
              </a:xfrm>
            </p:grpSpPr>
            <p:grpSp>
              <p:nvGrpSpPr>
                <p:cNvPr id="267" name="Group 74"/>
                <p:cNvGrpSpPr/>
                <p:nvPr/>
              </p:nvGrpSpPr>
              <p:grpSpPr>
                <a:xfrm>
                  <a:off x="3294000" y="1695240"/>
                  <a:ext cx="1009800" cy="939600"/>
                  <a:chOff x="3294000" y="1695240"/>
                  <a:chExt cx="1009800" cy="939600"/>
                </a:xfrm>
              </p:grpSpPr>
              <p:grpSp>
                <p:nvGrpSpPr>
                  <p:cNvPr id="268" name="Group 75"/>
                  <p:cNvGrpSpPr/>
                  <p:nvPr/>
                </p:nvGrpSpPr>
                <p:grpSpPr>
                  <a:xfrm>
                    <a:off x="3339000" y="2211840"/>
                    <a:ext cx="916560" cy="350640"/>
                    <a:chOff x="3339000" y="2211840"/>
                    <a:chExt cx="916560" cy="350640"/>
                  </a:xfrm>
                </p:grpSpPr>
                <p:sp>
                  <p:nvSpPr>
                    <p:cNvPr id="269" name="AutoShape 76"/>
                    <p:cNvSpPr/>
                    <p:nvPr/>
                  </p:nvSpPr>
                  <p:spPr>
                    <a:xfrm>
                      <a:off x="3359160" y="2242800"/>
                      <a:ext cx="888120" cy="31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760" y="21600"/>
                          </a:lnTo>
                          <a:lnTo>
                            <a:pt x="1584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77"/>
                    <p:cNvSpPr/>
                    <p:nvPr/>
                  </p:nvSpPr>
                  <p:spPr>
                    <a:xfrm>
                      <a:off x="3339000" y="2211840"/>
                      <a:ext cx="916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1" name="未知"/>
                  <p:cNvSpPr/>
                  <p:nvPr/>
                </p:nvSpPr>
                <p:spPr>
                  <a:xfrm>
                    <a:off x="3294000" y="1856880"/>
                    <a:ext cx="100980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4" h="1404">
                        <a:moveTo>
                          <a:pt x="543" y="1404"/>
                        </a:moveTo>
                        <a:lnTo>
                          <a:pt x="0" y="624"/>
                        </a:lnTo>
                        <a:lnTo>
                          <a:pt x="724" y="312"/>
                        </a:lnTo>
                        <a:lnTo>
                          <a:pt x="724" y="0"/>
                        </a:lnTo>
                        <a:lnTo>
                          <a:pt x="1267" y="0"/>
                        </a:lnTo>
                        <a:lnTo>
                          <a:pt x="1265" y="330"/>
                        </a:lnTo>
                        <a:lnTo>
                          <a:pt x="1994" y="624"/>
                        </a:lnTo>
                        <a:lnTo>
                          <a:pt x="1448" y="1404"/>
                        </a:lnTo>
                        <a:lnTo>
                          <a:pt x="543" y="1404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" name="Group 79"/>
                  <p:cNvGrpSpPr/>
                  <p:nvPr/>
                </p:nvGrpSpPr>
                <p:grpSpPr>
                  <a:xfrm>
                    <a:off x="3614040" y="1695240"/>
                    <a:ext cx="446400" cy="847440"/>
                    <a:chOff x="3614040" y="1695240"/>
                    <a:chExt cx="446400" cy="847440"/>
                  </a:xfrm>
                </p:grpSpPr>
                <p:sp>
                  <p:nvSpPr>
                    <p:cNvPr id="273" name="AutoShape 80"/>
                    <p:cNvSpPr/>
                    <p:nvPr/>
                  </p:nvSpPr>
                  <p:spPr>
                    <a:xfrm>
                      <a:off x="3695400" y="1836000"/>
                      <a:ext cx="198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hx30Oval 20"/>
                    <p:cNvSpPr/>
                    <p:nvPr/>
                  </p:nvSpPr>
                  <p:spPr>
                    <a:xfrm>
                      <a:off x="3715560" y="1755360"/>
                      <a:ext cx="1674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hx30Rectangle 21"/>
                    <p:cNvSpPr/>
                    <p:nvPr/>
                  </p:nvSpPr>
                  <p:spPr>
                    <a:xfrm>
                      <a:off x="3756240" y="1695240"/>
                      <a:ext cx="83520" cy="57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hx30Freeform 72"/>
                    <p:cNvSpPr/>
                    <p:nvPr/>
                  </p:nvSpPr>
                  <p:spPr>
                    <a:xfrm>
                      <a:off x="3634200" y="1977480"/>
                      <a:ext cx="426240" cy="56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0" h="3302">
                          <a:moveTo>
                            <a:pt x="840" y="0"/>
                          </a:moveTo>
                          <a:cubicBezTo>
                            <a:pt x="615" y="572"/>
                            <a:pt x="390" y="1144"/>
                            <a:pt x="480" y="1404"/>
                          </a:cubicBezTo>
                          <a:cubicBezTo>
                            <a:pt x="570" y="1664"/>
                            <a:pt x="1170" y="1456"/>
                            <a:pt x="1380" y="1560"/>
                          </a:cubicBezTo>
                          <a:cubicBezTo>
                            <a:pt x="1590" y="1664"/>
                            <a:pt x="1830" y="1872"/>
                            <a:pt x="1740" y="2028"/>
                          </a:cubicBezTo>
                          <a:cubicBezTo>
                            <a:pt x="1650" y="2184"/>
                            <a:pt x="870" y="2366"/>
                            <a:pt x="840" y="2496"/>
                          </a:cubicBezTo>
                          <a:cubicBezTo>
                            <a:pt x="810" y="2626"/>
                            <a:pt x="1410" y="2730"/>
                            <a:pt x="1560" y="2808"/>
                          </a:cubicBezTo>
                          <a:cubicBezTo>
                            <a:pt x="1710" y="2886"/>
                            <a:pt x="1740" y="2886"/>
                            <a:pt x="1740" y="2964"/>
                          </a:cubicBezTo>
                          <a:cubicBezTo>
                            <a:pt x="1740" y="3042"/>
                            <a:pt x="1680" y="3302"/>
                            <a:pt x="1560" y="3276"/>
                          </a:cubicBezTo>
                          <a:cubicBezTo>
                            <a:pt x="1440" y="3250"/>
                            <a:pt x="1170" y="2912"/>
                            <a:pt x="1020" y="2808"/>
                          </a:cubicBezTo>
                          <a:cubicBezTo>
                            <a:pt x="870" y="2704"/>
                            <a:pt x="720" y="2730"/>
                            <a:pt x="660" y="2652"/>
                          </a:cubicBezTo>
                          <a:cubicBezTo>
                            <a:pt x="600" y="2574"/>
                            <a:pt x="540" y="2470"/>
                            <a:pt x="660" y="2340"/>
                          </a:cubicBezTo>
                          <a:cubicBezTo>
                            <a:pt x="780" y="2210"/>
                            <a:pt x="1470" y="1976"/>
                            <a:pt x="1380" y="1872"/>
                          </a:cubicBezTo>
                          <a:cubicBezTo>
                            <a:pt x="1290" y="1768"/>
                            <a:pt x="240" y="2028"/>
                            <a:pt x="120" y="1716"/>
                          </a:cubicBezTo>
                          <a:cubicBezTo>
                            <a:pt x="0" y="1404"/>
                            <a:pt x="330" y="702"/>
                            <a:pt x="660" y="0"/>
                          </a:cubicBez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Group 84"/>
                    <p:cNvGrpSpPr/>
                    <p:nvPr/>
                  </p:nvGrpSpPr>
                  <p:grpSpPr>
                    <a:xfrm>
                      <a:off x="3614040" y="1786320"/>
                      <a:ext cx="360360" cy="81360"/>
                      <a:chOff x="3614040" y="1786320"/>
                      <a:chExt cx="360360" cy="81360"/>
                    </a:xfrm>
                  </p:grpSpPr>
                  <p:sp>
                    <p:nvSpPr>
                      <p:cNvPr id="278" name="Rectangle 85"/>
                      <p:cNvSpPr/>
                      <p:nvPr/>
                    </p:nvSpPr>
                    <p:spPr>
                      <a:xfrm>
                        <a:off x="3688200" y="1786320"/>
                        <a:ext cx="211320" cy="47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9" name="Rectangle 86"/>
                      <p:cNvSpPr/>
                      <p:nvPr/>
                    </p:nvSpPr>
                    <p:spPr>
                      <a:xfrm>
                        <a:off x="3614040" y="1823040"/>
                        <a:ext cx="360360" cy="44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0" name="AutoShape 87"/>
                  <p:cNvSpPr/>
                  <p:nvPr/>
                </p:nvSpPr>
                <p:spPr>
                  <a:xfrm flipV="1">
                    <a:off x="3481920" y="2585160"/>
                    <a:ext cx="635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096" y="21600"/>
                        </a:lnTo>
                        <a:lnTo>
                          <a:pt x="1750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Rectangle 88"/>
                  <p:cNvSpPr/>
                  <p:nvPr/>
                </p:nvSpPr>
                <p:spPr>
                  <a:xfrm>
                    <a:off x="3562920" y="2574720"/>
                    <a:ext cx="478080" cy="28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89"/>
                <p:cNvGrpSpPr/>
                <p:nvPr/>
              </p:nvGrpSpPr>
              <p:grpSpPr>
                <a:xfrm>
                  <a:off x="3539160" y="1382040"/>
                  <a:ext cx="461160" cy="331200"/>
                  <a:chOff x="3539160" y="1382040"/>
                  <a:chExt cx="461160" cy="331200"/>
                </a:xfrm>
              </p:grpSpPr>
              <p:sp>
                <p:nvSpPr>
                  <p:cNvPr id="283" name="未知"/>
                  <p:cNvSpPr/>
                  <p:nvPr/>
                </p:nvSpPr>
                <p:spPr>
                  <a:xfrm flipV="1" rot="20700000">
                    <a:off x="3702600" y="1392480"/>
                    <a:ext cx="38880" cy="27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未知"/>
                  <p:cNvSpPr/>
                  <p:nvPr/>
                </p:nvSpPr>
                <p:spPr>
                  <a:xfrm>
                    <a:off x="3794400" y="1392840"/>
                    <a:ext cx="10440" cy="27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未知"/>
                  <p:cNvSpPr/>
                  <p:nvPr/>
                </p:nvSpPr>
                <p:spPr>
                  <a:xfrm flipH="1" rot="20100000">
                    <a:off x="3673080" y="1392480"/>
                    <a:ext cx="828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未知"/>
                  <p:cNvSpPr/>
                  <p:nvPr/>
                </p:nvSpPr>
                <p:spPr>
                  <a:xfrm flipH="1">
                    <a:off x="3844800" y="1392840"/>
                    <a:ext cx="28800" cy="27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未知"/>
                  <p:cNvSpPr/>
                  <p:nvPr/>
                </p:nvSpPr>
                <p:spPr>
                  <a:xfrm rot="19800000">
                    <a:off x="3614760" y="1391400"/>
                    <a:ext cx="205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未知"/>
                  <p:cNvSpPr/>
                  <p:nvPr/>
                </p:nvSpPr>
                <p:spPr>
                  <a:xfrm flipH="1" rot="1500000">
                    <a:off x="3915720" y="1413720"/>
                    <a:ext cx="205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未知"/>
                  <p:cNvSpPr/>
                  <p:nvPr/>
                </p:nvSpPr>
                <p:spPr>
                  <a:xfrm flipV="1" rot="20700000">
                    <a:off x="3741120" y="1382040"/>
                    <a:ext cx="2268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未知"/>
                  <p:cNvSpPr/>
                  <p:nvPr/>
                </p:nvSpPr>
                <p:spPr>
                  <a:xfrm flipV="1" rot="900000">
                    <a:off x="3904920" y="1405440"/>
                    <a:ext cx="2268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1" name="Text Box 98"/>
            <p:cNvSpPr/>
            <p:nvPr/>
          </p:nvSpPr>
          <p:spPr>
            <a:xfrm>
              <a:off x="3565440" y="314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99"/>
          <p:cNvGrpSpPr/>
          <p:nvPr/>
        </p:nvGrpSpPr>
        <p:grpSpPr>
          <a:xfrm>
            <a:off x="6948360" y="1410480"/>
            <a:ext cx="1008000" cy="2321640"/>
            <a:chOff x="6948360" y="1410480"/>
            <a:chExt cx="1008000" cy="2321640"/>
          </a:xfrm>
        </p:grpSpPr>
        <p:grpSp>
          <p:nvGrpSpPr>
            <p:cNvPr id="293" name="Group 100"/>
            <p:cNvGrpSpPr/>
            <p:nvPr/>
          </p:nvGrpSpPr>
          <p:grpSpPr>
            <a:xfrm>
              <a:off x="6948360" y="1410480"/>
              <a:ext cx="1008000" cy="1656000"/>
              <a:chOff x="6948360" y="1410480"/>
              <a:chExt cx="1008000" cy="1656000"/>
            </a:xfrm>
          </p:grpSpPr>
          <p:sp>
            <p:nvSpPr>
              <p:cNvPr id="294" name="xjhhxtx20"/>
              <p:cNvSpPr/>
              <p:nvPr/>
            </p:nvSpPr>
            <p:spPr>
              <a:xfrm>
                <a:off x="7092000" y="2656080"/>
                <a:ext cx="753840" cy="410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102"/>
              <p:cNvGrpSpPr/>
              <p:nvPr/>
            </p:nvGrpSpPr>
            <p:grpSpPr>
              <a:xfrm>
                <a:off x="6948360" y="1410480"/>
                <a:ext cx="1008000" cy="1263960"/>
                <a:chOff x="6948360" y="1410480"/>
                <a:chExt cx="1008000" cy="1263960"/>
              </a:xfrm>
            </p:grpSpPr>
            <p:grpSp>
              <p:nvGrpSpPr>
                <p:cNvPr id="296" name="Group 103"/>
                <p:cNvGrpSpPr/>
                <p:nvPr/>
              </p:nvGrpSpPr>
              <p:grpSpPr>
                <a:xfrm>
                  <a:off x="6948360" y="1726560"/>
                  <a:ext cx="1008000" cy="947880"/>
                  <a:chOff x="6948360" y="1726560"/>
                  <a:chExt cx="1008000" cy="947880"/>
                </a:xfrm>
              </p:grpSpPr>
              <p:grpSp>
                <p:nvGrpSpPr>
                  <p:cNvPr id="297" name="Group 104"/>
                  <p:cNvGrpSpPr/>
                  <p:nvPr/>
                </p:nvGrpSpPr>
                <p:grpSpPr>
                  <a:xfrm>
                    <a:off x="6993000" y="2247840"/>
                    <a:ext cx="915120" cy="353520"/>
                    <a:chOff x="6993000" y="2247840"/>
                    <a:chExt cx="915120" cy="353520"/>
                  </a:xfrm>
                </p:grpSpPr>
                <p:sp>
                  <p:nvSpPr>
                    <p:cNvPr id="298" name="AutoShape 105"/>
                    <p:cNvSpPr/>
                    <p:nvPr/>
                  </p:nvSpPr>
                  <p:spPr>
                    <a:xfrm>
                      <a:off x="7013160" y="2279160"/>
                      <a:ext cx="886680" cy="32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760" y="21600"/>
                          </a:lnTo>
                          <a:lnTo>
                            <a:pt x="1584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06"/>
                    <p:cNvSpPr/>
                    <p:nvPr/>
                  </p:nvSpPr>
                  <p:spPr>
                    <a:xfrm>
                      <a:off x="6993000" y="2247840"/>
                      <a:ext cx="915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0" name="未知"/>
                  <p:cNvSpPr/>
                  <p:nvPr/>
                </p:nvSpPr>
                <p:spPr>
                  <a:xfrm>
                    <a:off x="6948360" y="1889640"/>
                    <a:ext cx="1008000" cy="73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4" h="1404">
                        <a:moveTo>
                          <a:pt x="543" y="1404"/>
                        </a:moveTo>
                        <a:lnTo>
                          <a:pt x="0" y="624"/>
                        </a:lnTo>
                        <a:lnTo>
                          <a:pt x="724" y="312"/>
                        </a:lnTo>
                        <a:lnTo>
                          <a:pt x="724" y="0"/>
                        </a:lnTo>
                        <a:lnTo>
                          <a:pt x="1267" y="0"/>
                        </a:lnTo>
                        <a:lnTo>
                          <a:pt x="1265" y="330"/>
                        </a:lnTo>
                        <a:lnTo>
                          <a:pt x="1994" y="624"/>
                        </a:lnTo>
                        <a:lnTo>
                          <a:pt x="1448" y="1404"/>
                        </a:lnTo>
                        <a:lnTo>
                          <a:pt x="543" y="1404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1" name="Group 108"/>
                  <p:cNvGrpSpPr/>
                  <p:nvPr/>
                </p:nvGrpSpPr>
                <p:grpSpPr>
                  <a:xfrm>
                    <a:off x="7267680" y="1726560"/>
                    <a:ext cx="445680" cy="855000"/>
                    <a:chOff x="7267680" y="1726560"/>
                    <a:chExt cx="445680" cy="855000"/>
                  </a:xfrm>
                </p:grpSpPr>
                <p:sp>
                  <p:nvSpPr>
                    <p:cNvPr id="302" name="AutoShape 109"/>
                    <p:cNvSpPr/>
                    <p:nvPr/>
                  </p:nvSpPr>
                  <p:spPr>
                    <a:xfrm>
                      <a:off x="7349040" y="1868760"/>
                      <a:ext cx="19836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hx30Oval 20"/>
                    <p:cNvSpPr/>
                    <p:nvPr/>
                  </p:nvSpPr>
                  <p:spPr>
                    <a:xfrm>
                      <a:off x="7369200" y="1787040"/>
                      <a:ext cx="1674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hx30Rectangle 21"/>
                    <p:cNvSpPr/>
                    <p:nvPr/>
                  </p:nvSpPr>
                  <p:spPr>
                    <a:xfrm>
                      <a:off x="7409520" y="1726560"/>
                      <a:ext cx="83160" cy="5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hx30Freeform 72"/>
                    <p:cNvSpPr/>
                    <p:nvPr/>
                  </p:nvSpPr>
                  <p:spPr>
                    <a:xfrm>
                      <a:off x="7287840" y="2011320"/>
                      <a:ext cx="42552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0" h="3302">
                          <a:moveTo>
                            <a:pt x="840" y="0"/>
                          </a:moveTo>
                          <a:cubicBezTo>
                            <a:pt x="615" y="572"/>
                            <a:pt x="390" y="1144"/>
                            <a:pt x="480" y="1404"/>
                          </a:cubicBezTo>
                          <a:cubicBezTo>
                            <a:pt x="570" y="1664"/>
                            <a:pt x="1170" y="1456"/>
                            <a:pt x="1380" y="1560"/>
                          </a:cubicBezTo>
                          <a:cubicBezTo>
                            <a:pt x="1590" y="1664"/>
                            <a:pt x="1830" y="1872"/>
                            <a:pt x="1740" y="2028"/>
                          </a:cubicBezTo>
                          <a:cubicBezTo>
                            <a:pt x="1650" y="2184"/>
                            <a:pt x="870" y="2366"/>
                            <a:pt x="840" y="2496"/>
                          </a:cubicBezTo>
                          <a:cubicBezTo>
                            <a:pt x="810" y="2626"/>
                            <a:pt x="1410" y="2730"/>
                            <a:pt x="1560" y="2808"/>
                          </a:cubicBezTo>
                          <a:cubicBezTo>
                            <a:pt x="1710" y="2886"/>
                            <a:pt x="1740" y="2886"/>
                            <a:pt x="1740" y="2964"/>
                          </a:cubicBezTo>
                          <a:cubicBezTo>
                            <a:pt x="1740" y="3042"/>
                            <a:pt x="1680" y="3302"/>
                            <a:pt x="1560" y="3276"/>
                          </a:cubicBezTo>
                          <a:cubicBezTo>
                            <a:pt x="1440" y="3250"/>
                            <a:pt x="1170" y="2912"/>
                            <a:pt x="1020" y="2808"/>
                          </a:cubicBezTo>
                          <a:cubicBezTo>
                            <a:pt x="870" y="2704"/>
                            <a:pt x="720" y="2730"/>
                            <a:pt x="660" y="2652"/>
                          </a:cubicBezTo>
                          <a:cubicBezTo>
                            <a:pt x="600" y="2574"/>
                            <a:pt x="540" y="2470"/>
                            <a:pt x="660" y="2340"/>
                          </a:cubicBezTo>
                          <a:cubicBezTo>
                            <a:pt x="780" y="2210"/>
                            <a:pt x="1470" y="1976"/>
                            <a:pt x="1380" y="1872"/>
                          </a:cubicBezTo>
                          <a:cubicBezTo>
                            <a:pt x="1290" y="1768"/>
                            <a:pt x="240" y="2028"/>
                            <a:pt x="120" y="1716"/>
                          </a:cubicBezTo>
                          <a:cubicBezTo>
                            <a:pt x="0" y="1404"/>
                            <a:pt x="330" y="702"/>
                            <a:pt x="660" y="0"/>
                          </a:cubicBezTo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6" name="Group 113"/>
                    <p:cNvGrpSpPr/>
                    <p:nvPr/>
                  </p:nvGrpSpPr>
                  <p:grpSpPr>
                    <a:xfrm>
                      <a:off x="7267680" y="1818360"/>
                      <a:ext cx="360000" cy="82080"/>
                      <a:chOff x="7267680" y="1818360"/>
                      <a:chExt cx="360000" cy="82080"/>
                    </a:xfrm>
                  </p:grpSpPr>
                  <p:sp>
                    <p:nvSpPr>
                      <p:cNvPr id="307" name="Rectangle 114"/>
                      <p:cNvSpPr/>
                      <p:nvPr/>
                    </p:nvSpPr>
                    <p:spPr>
                      <a:xfrm>
                        <a:off x="7341840" y="1818360"/>
                        <a:ext cx="211320" cy="475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Rectangle 115"/>
                      <p:cNvSpPr/>
                      <p:nvPr/>
                    </p:nvSpPr>
                    <p:spPr>
                      <a:xfrm>
                        <a:off x="7267680" y="1855440"/>
                        <a:ext cx="360000" cy="450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9" name="AutoShape 116"/>
                  <p:cNvSpPr/>
                  <p:nvPr/>
                </p:nvSpPr>
                <p:spPr>
                  <a:xfrm flipV="1">
                    <a:off x="7135920" y="2624040"/>
                    <a:ext cx="6343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096" y="21600"/>
                        </a:lnTo>
                        <a:lnTo>
                          <a:pt x="1750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Rectangle 117"/>
                  <p:cNvSpPr/>
                  <p:nvPr/>
                </p:nvSpPr>
                <p:spPr>
                  <a:xfrm>
                    <a:off x="7216560" y="2614320"/>
                    <a:ext cx="477000" cy="29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118"/>
                <p:cNvGrpSpPr/>
                <p:nvPr/>
              </p:nvGrpSpPr>
              <p:grpSpPr>
                <a:xfrm>
                  <a:off x="7192080" y="1410480"/>
                  <a:ext cx="462600" cy="334080"/>
                  <a:chOff x="7192080" y="1410480"/>
                  <a:chExt cx="462600" cy="334080"/>
                </a:xfrm>
              </p:grpSpPr>
              <p:sp>
                <p:nvSpPr>
                  <p:cNvPr id="312" name="未知"/>
                  <p:cNvSpPr/>
                  <p:nvPr/>
                </p:nvSpPr>
                <p:spPr>
                  <a:xfrm flipV="1" rot="20700000">
                    <a:off x="7356240" y="1421280"/>
                    <a:ext cx="388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未知"/>
                  <p:cNvSpPr/>
                  <p:nvPr/>
                </p:nvSpPr>
                <p:spPr>
                  <a:xfrm>
                    <a:off x="7447680" y="1421640"/>
                    <a:ext cx="1044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未知"/>
                  <p:cNvSpPr/>
                  <p:nvPr/>
                </p:nvSpPr>
                <p:spPr>
                  <a:xfrm flipH="1" rot="20100000">
                    <a:off x="7326720" y="1421280"/>
                    <a:ext cx="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未知"/>
                  <p:cNvSpPr/>
                  <p:nvPr/>
                </p:nvSpPr>
                <p:spPr>
                  <a:xfrm flipH="1">
                    <a:off x="7497360" y="1421640"/>
                    <a:ext cx="2844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未知"/>
                  <p:cNvSpPr/>
                  <p:nvPr/>
                </p:nvSpPr>
                <p:spPr>
                  <a:xfrm rot="19800000">
                    <a:off x="7268400" y="1420200"/>
                    <a:ext cx="20520" cy="31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未知"/>
                  <p:cNvSpPr/>
                  <p:nvPr/>
                </p:nvSpPr>
                <p:spPr>
                  <a:xfrm flipH="1" rot="1500000">
                    <a:off x="7569360" y="1442520"/>
                    <a:ext cx="20520" cy="31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未知"/>
                  <p:cNvSpPr/>
                  <p:nvPr/>
                </p:nvSpPr>
                <p:spPr>
                  <a:xfrm flipV="1" rot="20700000">
                    <a:off x="7394760" y="1410480"/>
                    <a:ext cx="226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未知"/>
                  <p:cNvSpPr/>
                  <p:nvPr/>
                </p:nvSpPr>
                <p:spPr>
                  <a:xfrm flipV="1" rot="900000">
                    <a:off x="7558200" y="1433520"/>
                    <a:ext cx="226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248">
                        <a:moveTo>
                          <a:pt x="180" y="1248"/>
                        </a:moveTo>
                        <a:cubicBezTo>
                          <a:pt x="90" y="1170"/>
                          <a:pt x="0" y="1092"/>
                          <a:pt x="0" y="936"/>
                        </a:cubicBezTo>
                        <a:cubicBezTo>
                          <a:pt x="0" y="780"/>
                          <a:pt x="180" y="468"/>
                          <a:pt x="180" y="312"/>
                        </a:cubicBezTo>
                        <a:cubicBezTo>
                          <a:pt x="180" y="156"/>
                          <a:pt x="30" y="52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0" name="Text Box 127"/>
            <p:cNvSpPr/>
            <p:nvPr/>
          </p:nvSpPr>
          <p:spPr>
            <a:xfrm>
              <a:off x="7237440" y="3211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28"/>
          <p:cNvSpPr/>
          <p:nvPr/>
        </p:nvSpPr>
        <p:spPr>
          <a:xfrm>
            <a:off x="3852000" y="40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9"/>
          <p:cNvSpPr/>
          <p:nvPr/>
        </p:nvSpPr>
        <p:spPr>
          <a:xfrm>
            <a:off x="179280" y="5445000"/>
            <a:ext cx="86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酒精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作用：处理尾气，防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大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0"/>
          <p:cNvSpPr/>
          <p:nvPr/>
        </p:nvSpPr>
        <p:spPr>
          <a:xfrm>
            <a:off x="2226600" y="490860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熄灭点燃尾气的酒精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1"/>
          <p:cNvSpPr/>
          <p:nvPr/>
        </p:nvSpPr>
        <p:spPr>
          <a:xfrm>
            <a:off x="484200" y="355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步骤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3"/>
          <p:cNvSpPr/>
          <p:nvPr/>
        </p:nvSpPr>
        <p:spPr>
          <a:xfrm>
            <a:off x="2095560" y="3995640"/>
            <a:ext cx="302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燃加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酒精灯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4"/>
          <p:cNvSpPr/>
          <p:nvPr/>
        </p:nvSpPr>
        <p:spPr>
          <a:xfrm>
            <a:off x="1877400" y="4425840"/>
            <a:ext cx="22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停止加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4433760" y="44355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停止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6"/>
          <p:cNvSpPr/>
          <p:nvPr/>
        </p:nvSpPr>
        <p:spPr>
          <a:xfrm>
            <a:off x="179280" y="5948280"/>
            <a:ext cx="86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现象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棕色的物质变为黑色；澄清的石灰水变浑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7"/>
          <p:cNvSpPr/>
          <p:nvPr/>
        </p:nvSpPr>
        <p:spPr>
          <a:xfrm>
            <a:off x="5148360" y="1238400"/>
            <a:ext cx="144360" cy="1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8"/>
          <p:cNvSpPr/>
          <p:nvPr/>
        </p:nvSpPr>
        <p:spPr>
          <a:xfrm>
            <a:off x="5484960" y="1238400"/>
            <a:ext cx="144360" cy="1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9"/>
          <p:cNvSpPr/>
          <p:nvPr/>
        </p:nvSpPr>
        <p:spPr>
          <a:xfrm>
            <a:off x="5234040" y="1254240"/>
            <a:ext cx="288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1"/>
          <p:cNvSpPr/>
          <p:nvPr/>
        </p:nvSpPr>
        <p:spPr>
          <a:xfrm>
            <a:off x="214200" y="461880"/>
            <a:ext cx="2773440" cy="2102040"/>
          </a:xfrm>
          <a:prstGeom prst="wedgeEllipseCallout">
            <a:avLst>
              <a:gd name="adj1" fmla="val 65087"/>
              <a:gd name="adj2" fmla="val -1042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1257480" y="1432080"/>
            <a:ext cx="747360" cy="131760"/>
          </a:xfrm>
          <a:custGeom>
            <a:avLst/>
            <a:gdLst/>
            <a:ahLst/>
            <a:rect l="l" t="t" r="r" b="b"/>
            <a:pathLst>
              <a:path w="780" h="140">
                <a:moveTo>
                  <a:pt x="0" y="134"/>
                </a:moveTo>
                <a:cubicBezTo>
                  <a:pt x="6" y="101"/>
                  <a:pt x="28" y="54"/>
                  <a:pt x="57" y="35"/>
                </a:cubicBezTo>
                <a:cubicBezTo>
                  <a:pt x="74" y="10"/>
                  <a:pt x="90" y="8"/>
                  <a:pt x="120" y="2"/>
                </a:cubicBezTo>
                <a:cubicBezTo>
                  <a:pt x="144" y="3"/>
                  <a:pt x="168" y="1"/>
                  <a:pt x="192" y="5"/>
                </a:cubicBezTo>
                <a:cubicBezTo>
                  <a:pt x="196" y="6"/>
                  <a:pt x="195" y="12"/>
                  <a:pt x="198" y="14"/>
                </a:cubicBezTo>
                <a:cubicBezTo>
                  <a:pt x="206" y="21"/>
                  <a:pt x="225" y="32"/>
                  <a:pt x="225" y="32"/>
                </a:cubicBezTo>
                <a:cubicBezTo>
                  <a:pt x="292" y="28"/>
                  <a:pt x="287" y="20"/>
                  <a:pt x="342" y="2"/>
                </a:cubicBezTo>
                <a:cubicBezTo>
                  <a:pt x="422" y="4"/>
                  <a:pt x="481" y="17"/>
                  <a:pt x="558" y="20"/>
                </a:cubicBezTo>
                <a:cubicBezTo>
                  <a:pt x="610" y="41"/>
                  <a:pt x="676" y="0"/>
                  <a:pt x="714" y="47"/>
                </a:cubicBezTo>
                <a:cubicBezTo>
                  <a:pt x="717" y="60"/>
                  <a:pt x="715" y="74"/>
                  <a:pt x="720" y="86"/>
                </a:cubicBezTo>
                <a:cubicBezTo>
                  <a:pt x="721" y="88"/>
                  <a:pt x="768" y="108"/>
                  <a:pt x="774" y="110"/>
                </a:cubicBezTo>
                <a:cubicBezTo>
                  <a:pt x="780" y="128"/>
                  <a:pt x="769" y="129"/>
                  <a:pt x="753" y="134"/>
                </a:cubicBezTo>
                <a:cubicBezTo>
                  <a:pt x="747" y="136"/>
                  <a:pt x="735" y="140"/>
                  <a:pt x="735" y="140"/>
                </a:cubicBezTo>
                <a:cubicBezTo>
                  <a:pt x="682" y="138"/>
                  <a:pt x="650" y="136"/>
                  <a:pt x="603" y="131"/>
                </a:cubicBezTo>
                <a:cubicBezTo>
                  <a:pt x="574" y="117"/>
                  <a:pt x="541" y="127"/>
                  <a:pt x="510" y="131"/>
                </a:cubicBezTo>
                <a:cubicBezTo>
                  <a:pt x="394" y="122"/>
                  <a:pt x="281" y="124"/>
                  <a:pt x="165" y="134"/>
                </a:cubicBezTo>
                <a:cubicBezTo>
                  <a:pt x="113" y="125"/>
                  <a:pt x="52" y="132"/>
                  <a:pt x="0" y="134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3"/>
          <p:cNvSpPr/>
          <p:nvPr/>
        </p:nvSpPr>
        <p:spPr>
          <a:xfrm>
            <a:off x="5978520" y="2911320"/>
            <a:ext cx="42840" cy="4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44"/>
          <p:cNvSpPr/>
          <p:nvPr/>
        </p:nvSpPr>
        <p:spPr>
          <a:xfrm>
            <a:off x="5986440" y="2792520"/>
            <a:ext cx="44640" cy="4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45"/>
          <p:cNvSpPr/>
          <p:nvPr/>
        </p:nvSpPr>
        <p:spPr>
          <a:xfrm>
            <a:off x="6008760" y="2563920"/>
            <a:ext cx="42840" cy="4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46" descr=""/>
          <p:cNvPicPr/>
          <p:nvPr/>
        </p:nvPicPr>
        <p:blipFill>
          <a:blip r:embed="rId7"/>
          <a:stretch/>
        </p:blipFill>
        <p:spPr>
          <a:xfrm>
            <a:off x="6942240" y="1398600"/>
            <a:ext cx="1057320" cy="23335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32"/>
          <p:cNvSpPr/>
          <p:nvPr/>
        </p:nvSpPr>
        <p:spPr>
          <a:xfrm>
            <a:off x="4460760" y="35719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燃处理尾气的酒精灯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47 L 0.00868 -0.02057 E">
                                      <p:cBhvr>
                                        <p:cTn id="129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74 -0.00115 L -0.00105 -0.02381 E">
                                      <p:cBhvr>
                                        <p:cTn id="131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0231 L 0.0033 -0.02335 E">
                                      <p:cBhvr>
                                        <p:cTn id="133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3 -0.00231 L 0.0033 -0.02335 E">
                                      <p:cBhvr>
                                        <p:cTn id="135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301 L 0.00122 -0.03862 E">
                                      <p:cBhvr>
                                        <p:cTn id="137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-0.00301 L 0.00122 -0.03862 E">
                                      <p:cBhvr>
                                        <p:cTn id="139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04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8092E-006 L -0.20677 0.03769 E">
                                      <p:cBhvr>
                                        <p:cTn id="22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606840" y="3927600"/>
            <a:ext cx="139536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62200" y="1817640"/>
            <a:ext cx="143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24000" y="1555920"/>
            <a:ext cx="3038400" cy="1008000"/>
          </a:xfrm>
          <a:prstGeom prst="roundRect">
            <a:avLst>
              <a:gd name="adj" fmla="val 16667"/>
            </a:avLst>
          </a:prstGeom>
          <a:solidFill>
            <a:srgbClr val="d2f4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5435640" y="1482840"/>
            <a:ext cx="2808360" cy="1008000"/>
          </a:xfrm>
          <a:prstGeom prst="roundRect">
            <a:avLst>
              <a:gd name="adj" fmla="val 16667"/>
            </a:avLst>
          </a:prstGeom>
          <a:solidFill>
            <a:srgbClr val="d6f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216000" y="3718080"/>
            <a:ext cx="31575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先停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365800" y="3664080"/>
            <a:ext cx="32464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停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521400" y="3921120"/>
            <a:ext cx="18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712880" y="39481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06360" y="63828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实验开始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352440" y="2849400"/>
            <a:ext cx="20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实验结束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044720" y="180648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6138720" y="173052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热氧化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4156200" y="482760"/>
            <a:ext cx="2879640" cy="1052280"/>
          </a:xfrm>
          <a:prstGeom prst="wedgeRoundRectCallout">
            <a:avLst>
              <a:gd name="adj1" fmla="val -42504"/>
              <a:gd name="adj2" fmla="val 8152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排净空气，防止爆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6"/>
          <p:cNvSpPr/>
          <p:nvPr/>
        </p:nvSpPr>
        <p:spPr>
          <a:xfrm>
            <a:off x="4181400" y="2809800"/>
            <a:ext cx="3384720" cy="790560"/>
          </a:xfrm>
          <a:prstGeom prst="wedgeRoundRectCallout">
            <a:avLst>
              <a:gd name="adj1" fmla="val -43763"/>
              <a:gd name="adj2" fmla="val 9118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防止铁被氧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1905120" y="5013360"/>
            <a:ext cx="2233440" cy="936720"/>
          </a:xfrm>
          <a:prstGeom prst="ellipse">
            <a:avLst/>
          </a:prstGeom>
          <a:solidFill>
            <a:srgbClr val="d6f5f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5219640" y="5013360"/>
            <a:ext cx="2232000" cy="936720"/>
          </a:xfrm>
          <a:prstGeom prst="ellipse">
            <a:avLst/>
          </a:prstGeom>
          <a:solidFill>
            <a:srgbClr val="ffffc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热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232000" y="5958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早来晚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5527800" y="5958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迟到早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3"/>
          <p:cNvSpPr/>
          <p:nvPr/>
        </p:nvSpPr>
        <p:spPr>
          <a:xfrm>
            <a:off x="447840" y="76824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1</a:t>
            </a:r>
            <a:r>
              <a:rPr b="0" lang="en-US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原料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270080" y="1773360"/>
            <a:ext cx="40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焦炭、石灰石、铁矿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924440" y="129708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240 h 1523880"/>
              <a:gd name="textAreaBottom" fmla="*/ 14846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3"/>
                  <a:pt x="10800" y="1786"/>
                </a:cubicBezTo>
                <a:lnTo>
                  <a:pt x="10800" y="9014"/>
                </a:lnTo>
                <a:cubicBezTo>
                  <a:pt x="10800" y="9907"/>
                  <a:pt x="5400" y="10800"/>
                  <a:pt x="0" y="10800"/>
                </a:cubicBezTo>
                <a:cubicBezTo>
                  <a:pt x="5400" y="10800"/>
                  <a:pt x="10800" y="11693"/>
                  <a:pt x="10800" y="12586"/>
                </a:cubicBezTo>
                <a:lnTo>
                  <a:pt x="10800" y="19814"/>
                </a:lnTo>
                <a:cubicBezTo>
                  <a:pt x="10800" y="2070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5297400" y="99360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黄铁矿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e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5297400" y="15289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赤铁矿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321160" y="2068560"/>
            <a:ext cx="3429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菱铁矿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e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5313240" y="2612880"/>
            <a:ext cx="3124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磁铁矿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484200" y="269568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原理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593640" y="3336840"/>
            <a:ext cx="780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高温下，利用焦炭与氧气反应生成的一氧化碳把铁从铁矿石中还原出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9"/>
          <p:cNvGrpSpPr/>
          <p:nvPr/>
        </p:nvGrpSpPr>
        <p:grpSpPr>
          <a:xfrm>
            <a:off x="828720" y="4610160"/>
            <a:ext cx="5145120" cy="804960"/>
            <a:chOff x="828720" y="4610160"/>
            <a:chExt cx="5145120" cy="804960"/>
          </a:xfrm>
        </p:grpSpPr>
        <p:sp>
          <p:nvSpPr>
            <p:cNvPr id="369" name="Text Box 16"/>
            <p:cNvSpPr/>
            <p:nvPr/>
          </p:nvSpPr>
          <p:spPr>
            <a:xfrm>
              <a:off x="828720" y="4870440"/>
              <a:ext cx="51451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3CO              2Fe+3CO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2997360" y="517212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0"/>
            <p:cNvSpPr/>
            <p:nvPr/>
          </p:nvSpPr>
          <p:spPr>
            <a:xfrm>
              <a:off x="2997360" y="509616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1"/>
            <p:cNvSpPr/>
            <p:nvPr/>
          </p:nvSpPr>
          <p:spPr>
            <a:xfrm>
              <a:off x="3057840" y="4610160"/>
              <a:ext cx="124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温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4"/>
          <p:cNvSpPr/>
          <p:nvPr/>
        </p:nvSpPr>
        <p:spPr>
          <a:xfrm>
            <a:off x="573120" y="561024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3.</a:t>
            </a:r>
            <a:r>
              <a:rPr b="0" lang="zh-CN" sz="2600" spc="-1" strike="noStrike">
                <a:solidFill>
                  <a:srgbClr val="3333ff"/>
                </a:solidFill>
                <a:latin typeface="Times New Roman"/>
                <a:ea typeface="黑体"/>
              </a:rPr>
              <a:t>主要设备：炼铁高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4057"/>
          <p:cNvSpPr/>
          <p:nvPr/>
        </p:nvSpPr>
        <p:spPr>
          <a:xfrm>
            <a:off x="3110040" y="523800"/>
            <a:ext cx="4365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铁的冶炼（工业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未命名"/>
          <p:cNvPicPr/>
          <p:nvPr/>
        </p:nvPicPr>
        <p:blipFill>
          <a:blip r:embed="rId1"/>
          <a:stretch/>
        </p:blipFill>
        <p:spPr>
          <a:xfrm>
            <a:off x="900000" y="477720"/>
            <a:ext cx="7740720" cy="58057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6372360" y="1701720"/>
            <a:ext cx="2214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将铁矿石中的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i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炉渣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2941560" y="4221000"/>
            <a:ext cx="3575160" cy="606600"/>
            <a:chOff x="2941560" y="4221000"/>
            <a:chExt cx="3575160" cy="606600"/>
          </a:xfrm>
        </p:grpSpPr>
        <p:sp>
          <p:nvSpPr>
            <p:cNvPr id="379" name="Text Box 5"/>
            <p:cNvSpPr/>
            <p:nvPr/>
          </p:nvSpPr>
          <p:spPr>
            <a:xfrm>
              <a:off x="4560120" y="4221000"/>
              <a:ext cx="74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点燃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2941560" y="4317480"/>
              <a:ext cx="35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) C +  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=== C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30"/>
          <p:cNvGrpSpPr/>
          <p:nvPr/>
        </p:nvGrpSpPr>
        <p:grpSpPr>
          <a:xfrm>
            <a:off x="2914560" y="3502080"/>
            <a:ext cx="3170160" cy="725760"/>
            <a:chOff x="2914560" y="3502080"/>
            <a:chExt cx="3170160" cy="725760"/>
          </a:xfrm>
        </p:grpSpPr>
        <p:sp>
          <p:nvSpPr>
            <p:cNvPr id="382" name="Text Box 8"/>
            <p:cNvSpPr/>
            <p:nvPr/>
          </p:nvSpPr>
          <p:spPr>
            <a:xfrm>
              <a:off x="4479840" y="350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高温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2914560" y="3717720"/>
              <a:ext cx="31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2)C + C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=== 2C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11"/>
          <p:cNvSpPr/>
          <p:nvPr/>
        </p:nvSpPr>
        <p:spPr>
          <a:xfrm>
            <a:off x="3348000" y="55897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620720" y="580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出铁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4716360" y="530208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炉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6156360" y="537372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出渣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 flipH="1">
            <a:off x="2629080" y="5878440"/>
            <a:ext cx="404640" cy="138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6"/>
          <p:cNvSpPr/>
          <p:nvPr/>
        </p:nvSpPr>
        <p:spPr>
          <a:xfrm>
            <a:off x="5724360" y="5589720"/>
            <a:ext cx="47160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9"/>
          <p:cNvGrpSpPr/>
          <p:nvPr/>
        </p:nvGrpSpPr>
        <p:grpSpPr>
          <a:xfrm>
            <a:off x="1444680" y="2498760"/>
            <a:ext cx="6994440" cy="1066320"/>
            <a:chOff x="1444680" y="2498760"/>
            <a:chExt cx="6994440" cy="1066320"/>
          </a:xfrm>
        </p:grpSpPr>
        <p:sp>
          <p:nvSpPr>
            <p:cNvPr id="391" name="Text Box 18"/>
            <p:cNvSpPr/>
            <p:nvPr/>
          </p:nvSpPr>
          <p:spPr>
            <a:xfrm>
              <a:off x="1444680" y="2498760"/>
              <a:ext cx="699444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⑶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e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3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 3CO ===== 2Fe + 3CO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4280040" y="2854440"/>
              <a:ext cx="979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高温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20"/>
          <p:cNvSpPr/>
          <p:nvPr/>
        </p:nvSpPr>
        <p:spPr>
          <a:xfrm>
            <a:off x="1260360" y="620640"/>
            <a:ext cx="14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炉气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6516720" y="909720"/>
            <a:ext cx="14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炉气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 flipH="1" flipV="1">
            <a:off x="2989440" y="838080"/>
            <a:ext cx="33624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3"/>
          <p:cNvSpPr/>
          <p:nvPr/>
        </p:nvSpPr>
        <p:spPr>
          <a:xfrm flipV="1">
            <a:off x="5653080" y="909360"/>
            <a:ext cx="336600" cy="27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4"/>
          <p:cNvSpPr/>
          <p:nvPr/>
        </p:nvSpPr>
        <p:spPr>
          <a:xfrm>
            <a:off x="4213080" y="404640"/>
            <a:ext cx="1011240" cy="416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5"/>
          <p:cNvSpPr/>
          <p:nvPr/>
        </p:nvSpPr>
        <p:spPr>
          <a:xfrm flipH="1">
            <a:off x="4571640" y="838080"/>
            <a:ext cx="13500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6"/>
          <p:cNvSpPr/>
          <p:nvPr/>
        </p:nvSpPr>
        <p:spPr>
          <a:xfrm>
            <a:off x="3348000" y="1557360"/>
            <a:ext cx="246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产生一氧化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②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提供热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5"/>
          <p:cNvSpPr/>
          <p:nvPr/>
        </p:nvSpPr>
        <p:spPr>
          <a:xfrm>
            <a:off x="6141960" y="784080"/>
            <a:ext cx="584280" cy="1009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2" descr=""/>
          <p:cNvPicPr/>
          <p:nvPr/>
        </p:nvPicPr>
        <p:blipFill>
          <a:blip r:embed="rId2"/>
          <a:stretch/>
        </p:blipFill>
        <p:spPr>
          <a:xfrm>
            <a:off x="6461280" y="5141880"/>
            <a:ext cx="252360" cy="241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2" name="Picture 33" descr=""/>
          <p:cNvPicPr/>
          <p:nvPr/>
        </p:nvPicPr>
        <p:blipFill>
          <a:blip r:embed="rId3"/>
          <a:stretch/>
        </p:blipFill>
        <p:spPr>
          <a:xfrm>
            <a:off x="6070680" y="5141880"/>
            <a:ext cx="390600" cy="26676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3440" y="580680"/>
            <a:ext cx="820872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  <a:ea typeface="黑体"/>
              </a:rPr>
              <a:t>认识铁矿石、氧化铁和铁；铁与生铁的关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12720" y="1628640"/>
            <a:ext cx="1608120" cy="990720"/>
          </a:xfrm>
          <a:prstGeom prst="rec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844720" y="1773360"/>
            <a:ext cx="1371600" cy="761760"/>
          </a:xfrm>
          <a:prstGeom prst="rec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5051520" y="1905120"/>
            <a:ext cx="914400" cy="533160"/>
          </a:xfrm>
          <a:prstGeom prst="rec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2268360" y="213372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2847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684360" y="1844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铁矿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2989440" y="1916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12748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84360" y="3070080"/>
            <a:ext cx="13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混合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2844720" y="2997360"/>
            <a:ext cx="1657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ff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化合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纯净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4861080" y="2997360"/>
            <a:ext cx="16556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ff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 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纯净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6805440" y="1700280"/>
            <a:ext cx="1872000" cy="1015920"/>
          </a:xfrm>
          <a:prstGeom prst="rec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 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主要含铁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7"/>
          <p:cNvSpPr/>
          <p:nvPr/>
        </p:nvSpPr>
        <p:spPr>
          <a:xfrm>
            <a:off x="60847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6950160" y="2997360"/>
            <a:ext cx="1584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ff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合 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混合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1474920" y="4437000"/>
            <a:ext cx="5759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纯净物的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物质的纯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100%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纯物的总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1"/>
          <p:cNvSpPr/>
          <p:nvPr/>
        </p:nvSpPr>
        <p:spPr>
          <a:xfrm>
            <a:off x="3411360" y="542772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5"/>
          <p:cNvSpPr/>
          <p:nvPr/>
        </p:nvSpPr>
        <p:spPr>
          <a:xfrm>
            <a:off x="447840" y="1779480"/>
            <a:ext cx="309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22200" y="746280"/>
            <a:ext cx="8205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 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含氧化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的赤铁矿石，理论上可以炼出含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的生铁多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1752480" y="198756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理论上可以炼出含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生铁的质量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2528280" y="2575080"/>
            <a:ext cx="33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------------------2 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2451240" y="303228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0                              2×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2305080" y="34639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0t×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％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·96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20"/>
          <p:cNvGrpSpPr/>
          <p:nvPr/>
        </p:nvGrpSpPr>
        <p:grpSpPr>
          <a:xfrm>
            <a:off x="1996920" y="3968640"/>
            <a:ext cx="4773600" cy="825480"/>
            <a:chOff x="1996920" y="3968640"/>
            <a:chExt cx="4773600" cy="825480"/>
          </a:xfrm>
        </p:grpSpPr>
        <p:sp>
          <p:nvSpPr>
            <p:cNvPr id="429" name="Text Box 14"/>
            <p:cNvSpPr/>
            <p:nvPr/>
          </p:nvSpPr>
          <p:spPr>
            <a:xfrm>
              <a:off x="1996920" y="3968640"/>
              <a:ext cx="477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60                         2×5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000t×8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％            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·96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>
              <a:off x="2449440" y="4348080"/>
              <a:ext cx="1584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>
              <a:off x="4897080" y="4348080"/>
              <a:ext cx="1584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>
              <a:off x="4249440" y="4276800"/>
              <a:ext cx="432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4249440" y="4348080"/>
              <a:ext cx="432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21"/>
          <p:cNvSpPr/>
          <p:nvPr/>
        </p:nvSpPr>
        <p:spPr>
          <a:xfrm>
            <a:off x="2197080" y="4956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0"/>
          <p:cNvGrpSpPr/>
          <p:nvPr/>
        </p:nvGrpSpPr>
        <p:grpSpPr>
          <a:xfrm>
            <a:off x="2000160" y="4761000"/>
            <a:ext cx="4083840" cy="1015920"/>
            <a:chOff x="2000160" y="4761000"/>
            <a:chExt cx="4083840" cy="1015920"/>
          </a:xfrm>
        </p:grpSpPr>
        <p:sp>
          <p:nvSpPr>
            <p:cNvPr id="436" name="Rectangle 23"/>
            <p:cNvSpPr/>
            <p:nvPr/>
          </p:nvSpPr>
          <p:spPr>
            <a:xfrm>
              <a:off x="2000160" y="4945320"/>
              <a:ext cx="102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27"/>
            <p:cNvGrpSpPr/>
            <p:nvPr/>
          </p:nvGrpSpPr>
          <p:grpSpPr>
            <a:xfrm>
              <a:off x="2941920" y="4761000"/>
              <a:ext cx="3142080" cy="1015920"/>
              <a:chOff x="2941920" y="4761000"/>
              <a:chExt cx="3142080" cy="1015920"/>
            </a:xfrm>
          </p:grpSpPr>
          <p:sp>
            <p:nvSpPr>
              <p:cNvPr id="438" name="Text Box 25"/>
              <p:cNvSpPr/>
              <p:nvPr/>
            </p:nvSpPr>
            <p:spPr>
              <a:xfrm>
                <a:off x="2941920" y="4761000"/>
                <a:ext cx="3142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2×56× 1000t×80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％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160×96%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6"/>
              <p:cNvSpPr/>
              <p:nvPr/>
            </p:nvSpPr>
            <p:spPr>
              <a:xfrm>
                <a:off x="3021120" y="5192640"/>
                <a:ext cx="29055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Text Box 28"/>
          <p:cNvSpPr/>
          <p:nvPr/>
        </p:nvSpPr>
        <p:spPr>
          <a:xfrm>
            <a:off x="5880600" y="49658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583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1348560" y="5716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4"/>
          <p:cNvSpPr/>
          <p:nvPr/>
        </p:nvSpPr>
        <p:spPr>
          <a:xfrm>
            <a:off x="325440" y="766800"/>
            <a:ext cx="83883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◆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铁的冶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原料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焦炭、石灰石、铁矿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.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原理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高温下，利用焦炭与氧气反应生成的一氧化碳把铁从铁矿石中还原出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◆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涉及杂质问题的计算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实际生产时，所用的原料或产物一般都含有杂质，在计算用料和产量时，应注意杂质问题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3"/>
          <p:cNvGrpSpPr/>
          <p:nvPr/>
        </p:nvGrpSpPr>
        <p:grpSpPr>
          <a:xfrm>
            <a:off x="973080" y="3790800"/>
            <a:ext cx="7448400" cy="722520"/>
            <a:chOff x="973080" y="3790800"/>
            <a:chExt cx="7448400" cy="722520"/>
          </a:xfrm>
        </p:grpSpPr>
        <p:sp>
          <p:nvSpPr>
            <p:cNvPr id="445" name="Text Box 16"/>
            <p:cNvSpPr/>
            <p:nvPr/>
          </p:nvSpPr>
          <p:spPr>
            <a:xfrm>
              <a:off x="973080" y="3933720"/>
              <a:ext cx="7448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3CO                        2Fe+3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2"/>
            <p:cNvGrpSpPr/>
            <p:nvPr/>
          </p:nvGrpSpPr>
          <p:grpSpPr>
            <a:xfrm>
              <a:off x="3488400" y="3790800"/>
              <a:ext cx="1240560" cy="576360"/>
              <a:chOff x="3488400" y="3790800"/>
              <a:chExt cx="1240560" cy="576360"/>
            </a:xfrm>
          </p:grpSpPr>
          <p:sp>
            <p:nvSpPr>
              <p:cNvPr id="447" name="Line 19"/>
              <p:cNvSpPr/>
              <p:nvPr/>
            </p:nvSpPr>
            <p:spPr>
              <a:xfrm>
                <a:off x="3488400" y="4367160"/>
                <a:ext cx="10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0"/>
              <p:cNvSpPr/>
              <p:nvPr/>
            </p:nvSpPr>
            <p:spPr>
              <a:xfrm>
                <a:off x="3488400" y="4294080"/>
                <a:ext cx="10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21"/>
              <p:cNvSpPr/>
              <p:nvPr/>
            </p:nvSpPr>
            <p:spPr>
              <a:xfrm>
                <a:off x="3488400" y="3790800"/>
                <a:ext cx="124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高温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1127160"/>
            <a:ext cx="344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金属活动性顺序表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63640" y="30481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  Ca  Na  Mg  Al  Zn  Fe  Sn  Pb  (H)  Cu  Hg  Ag  Pt  A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042920" y="3716280"/>
            <a:ext cx="777240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089520" y="3762360"/>
            <a:ext cx="236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金属活动性由强逐渐减弱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841320" y="2111400"/>
            <a:ext cx="7629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常见的金属矿物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解铁的冶炼方法和原理，会计算含杂质物质的有关化学方程式的计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"/>
          <p:cNvSpPr/>
          <p:nvPr/>
        </p:nvSpPr>
        <p:spPr>
          <a:xfrm>
            <a:off x="3451320" y="1247760"/>
            <a:ext cx="34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8200" y="2351160"/>
            <a:ext cx="2305080" cy="520560"/>
          </a:xfrm>
          <a:prstGeom prst="rect">
            <a:avLst/>
          </a:prstGeom>
          <a:solidFill>
            <a:srgbClr val="d6f5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地球上的金属资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 flipV="1">
            <a:off x="2843280" y="2206800"/>
            <a:ext cx="2303280" cy="792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 rot="20503200">
            <a:off x="2842920" y="20480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广泛存在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219640" y="16304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7720 h 1081080"/>
              <a:gd name="textAreaBottom" fmla="*/ 105336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506920" y="1414440"/>
            <a:ext cx="906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地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506920" y="2206800"/>
            <a:ext cx="947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海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2843280" y="3143160"/>
            <a:ext cx="2016000" cy="1150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5003640" y="3359160"/>
            <a:ext cx="287640" cy="2016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52200 h 2016000"/>
              <a:gd name="textAreaBottom" fmla="*/ 19638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 rot="1726200">
            <a:off x="2748240" y="37958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存在形式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364000" y="4438800"/>
            <a:ext cx="3135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少数很不活泼的金属如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Au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Ag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等有单质形式存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5364000" y="2998800"/>
            <a:ext cx="314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数金属都以化合物形式存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7735680" y="4878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6140880" y="443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6147"/>
          <p:cNvGrpSpPr/>
          <p:nvPr/>
        </p:nvGrpSpPr>
        <p:grpSpPr>
          <a:xfrm>
            <a:off x="372960" y="379440"/>
            <a:ext cx="3014640" cy="806760"/>
            <a:chOff x="372960" y="379440"/>
            <a:chExt cx="3014640" cy="806760"/>
          </a:xfrm>
        </p:grpSpPr>
        <p:sp>
          <p:nvSpPr>
            <p:cNvPr id="145" name="矩形 7"/>
            <p:cNvSpPr/>
            <p:nvPr/>
          </p:nvSpPr>
          <p:spPr>
            <a:xfrm>
              <a:off x="932400" y="379440"/>
              <a:ext cx="167184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16"/>
            <p:cNvSpPr/>
            <p:nvPr/>
          </p:nvSpPr>
          <p:spPr>
            <a:xfrm>
              <a:off x="37296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7"/>
            <p:cNvSpPr/>
            <p:nvPr/>
          </p:nvSpPr>
          <p:spPr>
            <a:xfrm>
              <a:off x="73476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6151"/>
            <p:cNvSpPr/>
            <p:nvPr/>
          </p:nvSpPr>
          <p:spPr>
            <a:xfrm>
              <a:off x="1500120" y="65304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地球上的金属资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6152"/>
            <p:cNvSpPr/>
            <p:nvPr/>
          </p:nvSpPr>
          <p:spPr>
            <a:xfrm>
              <a:off x="37296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ccff"/>
                  </a:solidFill>
                  <a:latin typeface="微软雅黑"/>
                  <a:ea typeface="微软雅黑"/>
                </a:rPr>
                <a:t>一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pic_21763"/>
          <p:cNvPicPr/>
          <p:nvPr/>
        </p:nvPicPr>
        <p:blipFill>
          <a:blip r:embed="rId1"/>
          <a:stretch/>
        </p:blipFill>
        <p:spPr>
          <a:xfrm>
            <a:off x="755640" y="1557360"/>
            <a:ext cx="3844800" cy="36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544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界以单质形式存在的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ic_21764"/>
          <p:cNvPicPr/>
          <p:nvPr/>
        </p:nvPicPr>
        <p:blipFill>
          <a:blip r:embed="rId2"/>
          <a:stretch/>
        </p:blipFill>
        <p:spPr>
          <a:xfrm>
            <a:off x="5148360" y="148428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4862520" y="544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界以单质形式存在的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pic_21765"/>
          <p:cNvPicPr/>
          <p:nvPr/>
        </p:nvPicPr>
        <p:blipFill>
          <a:blip r:embed="rId1"/>
          <a:stretch/>
        </p:blipFill>
        <p:spPr>
          <a:xfrm>
            <a:off x="971640" y="1917720"/>
            <a:ext cx="3238560" cy="3240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403280" y="5157720"/>
            <a:ext cx="303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赤铁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F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ic_21766"/>
          <p:cNvPicPr/>
          <p:nvPr/>
        </p:nvPicPr>
        <p:blipFill>
          <a:blip r:embed="rId2"/>
          <a:stretch/>
        </p:blipFill>
        <p:spPr>
          <a:xfrm>
            <a:off x="4427640" y="693720"/>
            <a:ext cx="3600360" cy="222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5310360" y="2898720"/>
            <a:ext cx="210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黄铁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Fe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pic_21767"/>
          <p:cNvPicPr/>
          <p:nvPr/>
        </p:nvPicPr>
        <p:blipFill>
          <a:blip r:embed="rId3"/>
          <a:stretch/>
        </p:blipFill>
        <p:spPr>
          <a:xfrm>
            <a:off x="4427640" y="3430440"/>
            <a:ext cx="3673440" cy="2541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5291280" y="6040440"/>
            <a:ext cx="2360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铁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Fe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00000" y="76500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常见的金属矿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图8-18 常见的矿石—黄铜矿（图）"/>
          <p:cNvPicPr/>
          <p:nvPr/>
        </p:nvPicPr>
        <p:blipFill>
          <a:blip r:embed="rId1"/>
          <a:stretch/>
        </p:blipFill>
        <p:spPr>
          <a:xfrm>
            <a:off x="4356000" y="909720"/>
            <a:ext cx="4105440" cy="22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图8-18 常见的矿石—辉铜矿"/>
          <p:cNvPicPr/>
          <p:nvPr/>
        </p:nvPicPr>
        <p:blipFill>
          <a:blip r:embed="rId2"/>
          <a:stretch/>
        </p:blipFill>
        <p:spPr>
          <a:xfrm>
            <a:off x="4356000" y="3718080"/>
            <a:ext cx="4176720" cy="222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图8-18 常见的矿石—铝土矿"/>
          <p:cNvPicPr/>
          <p:nvPr/>
        </p:nvPicPr>
        <p:blipFill>
          <a:blip r:embed="rId3"/>
          <a:srcRect l="0" t="9714" r="0" b="6466"/>
          <a:stretch/>
        </p:blipFill>
        <p:spPr>
          <a:xfrm>
            <a:off x="947880" y="982800"/>
            <a:ext cx="3025800" cy="3598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1187280" y="4799160"/>
            <a:ext cx="26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铝土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076720" y="3214800"/>
            <a:ext cx="28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黄铜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F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292720" y="6022800"/>
            <a:ext cx="25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辉铜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633760" y="947880"/>
            <a:ext cx="421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ff"/>
                </a:solidFill>
                <a:latin typeface="黑体"/>
                <a:ea typeface="黑体"/>
              </a:rPr>
              <a:t>金属元素在地壳中的含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773360"/>
          <a:ext cx="7993080" cy="3825720"/>
        </p:xfrm>
        <a:graphic>
          <a:graphicData uri="http://schemas.openxmlformats.org/drawingml/2006/table">
            <a:tbl>
              <a:tblPr/>
              <a:tblGrid>
                <a:gridCol w="1297080"/>
                <a:gridCol w="2808360"/>
                <a:gridCol w="1152360"/>
                <a:gridCol w="27352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元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75b5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175b5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质量分数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/%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175b5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元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175b5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质量分数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/%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175b5c"/>
                      </a:solidFill>
                    </a:lnR>
                    <a:lnT w="13680">
                      <a:solidFill>
                        <a:srgbClr val="175b5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铝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5b5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7.73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.00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175b5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5b5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4.75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锌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0.008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175b5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钙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5b5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3.45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铜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0.007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175b5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5b5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.7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银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0.00001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175b5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钾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5b5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75b5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.47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75b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金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75b5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0.0000005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175b5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75b5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6147"/>
          <p:cNvGrpSpPr/>
          <p:nvPr/>
        </p:nvGrpSpPr>
        <p:grpSpPr>
          <a:xfrm>
            <a:off x="372960" y="379440"/>
            <a:ext cx="2232000" cy="806760"/>
            <a:chOff x="372960" y="379440"/>
            <a:chExt cx="2232000" cy="806760"/>
          </a:xfrm>
        </p:grpSpPr>
        <p:sp>
          <p:nvSpPr>
            <p:cNvPr id="175" name="矩形 7"/>
            <p:cNvSpPr/>
            <p:nvPr/>
          </p:nvSpPr>
          <p:spPr>
            <a:xfrm>
              <a:off x="932760" y="37944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6"/>
            <p:cNvSpPr/>
            <p:nvPr/>
          </p:nvSpPr>
          <p:spPr>
            <a:xfrm>
              <a:off x="37296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7"/>
            <p:cNvSpPr/>
            <p:nvPr/>
          </p:nvSpPr>
          <p:spPr>
            <a:xfrm>
              <a:off x="73476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6151"/>
            <p:cNvSpPr/>
            <p:nvPr/>
          </p:nvSpPr>
          <p:spPr>
            <a:xfrm>
              <a:off x="1215720" y="653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铁的冶炼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6152"/>
            <p:cNvSpPr/>
            <p:nvPr/>
          </p:nvSpPr>
          <p:spPr>
            <a:xfrm>
              <a:off x="37296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ccff"/>
                  </a:solidFill>
                  <a:latin typeface="微软雅黑"/>
                  <a:ea typeface="微软雅黑"/>
                </a:rPr>
                <a:t>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片 23555" descr="古代冶铁图"/>
          <p:cNvPicPr/>
          <p:nvPr/>
        </p:nvPicPr>
        <p:blipFill>
          <a:blip r:embed="rId1"/>
          <a:stretch/>
        </p:blipFill>
        <p:spPr>
          <a:xfrm>
            <a:off x="947880" y="1800360"/>
            <a:ext cx="7237440" cy="444636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梯田文化</cp:lastModifiedBy>
  <dcterms:modified xsi:type="dcterms:W3CDTF">2018-03-21T00:31:04Z</dcterms:modified>
  <cp:revision>309</cp:revision>
  <dc:subject/>
  <dc:title>幻灯片 1</dc:title>
</cp:coreProperties>
</file>